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ADC4-C8F4-4252-A204-7FCD4316E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9 + 12 = 21   2.  6 x 4 = 24   3. 5 x 3 = 15    4. 12 + 10 =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6 x 256 + 20 + 1,536 + 20 = 1,7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81 – 9 = 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35 / 7 = 9     4. 5 + 512/64= 5+8=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87D-235C-4153-BBE1-364D89D9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245-066F-4A12-B5F9-9CF880DE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3B47-4986-4A89-ACFC-77B6C0EF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EFE-82AE-457D-BA6B-70509273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947E-30FD-45CE-974D-DA1C6B41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1CF0-00BB-4C36-8D6B-A85B3F10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6828-5C46-4A23-A82A-DC4A2E8E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04F1-7CC5-420D-89A9-75BBCB3A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E2B1-7CB3-455A-977B-03AF39B2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97FC-FC46-4029-8CC8-12740A43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E4AE-3010-4E85-9D53-71351091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511-9797-4827-BA7C-A20F145E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9051-51C5-42CE-8717-354F82D4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2D2E-7647-498B-9993-869D7050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592A-75ED-410A-A9E7-4151A751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6C52-A870-4E14-A51B-D1CB90B5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B87F-0730-4995-B73B-A21A5703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2D5-E488-45B5-9BE3-8C4BB6E3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CA6-5DEB-4132-945A-94E8120C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EFA-D996-48FC-93D7-5AA66DDA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5D9-6D68-4BEC-9737-D76D9250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DFA6-0BD3-42FC-A479-242DE0C2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15D0-E673-4EB7-8E4A-893F07BB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65E6-5ACC-4B83-8EF8-4BFB3197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34BB-F2B7-4CDE-B498-2C9884EE5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02D7-0257-429B-823A-5067B9CE6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rainpop.com/math/numbersandoperations/orderofoperations/" TargetMode="External"/><Relationship Id="rId2" Type="http://schemas.openxmlformats.org/officeDocument/2006/relationships/hyperlink" Target="http://www.brainpop.com/math/numbersandoperations/orderofoperations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o the 7th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27200" y="1901880"/>
            <a:ext cx="1847880" cy="322200"/>
          </a:xfrm>
          <a:custGeom>
            <a:avLst/>
            <a:gdLst/>
            <a:ahLst/>
            <a:rect l="l" t="t" r="r" b="b"/>
            <a:pathLst>
              <a:path w="5135" h="894">
                <a:moveTo>
                  <a:pt x="7342" y="5383"/>
                </a:moveTo>
                <a:cubicBezTo>
                  <a:pt x="7334" y="5399"/>
                  <a:pt x="7325" y="5416"/>
                  <a:pt x="7317" y="5432"/>
                </a:cubicBezTo>
                <a:cubicBezTo>
                  <a:pt x="7372" y="5268"/>
                  <a:pt x="7635" y="5193"/>
                  <a:pt x="7689" y="5457"/>
                </a:cubicBezTo>
                <a:cubicBezTo>
                  <a:pt x="7785" y="5927"/>
                  <a:pt x="7366" y="6114"/>
                  <a:pt x="7020" y="6102"/>
                </a:cubicBezTo>
                <a:cubicBezTo>
                  <a:pt x="7166" y="5811"/>
                  <a:pt x="7359" y="5786"/>
                  <a:pt x="7640" y="6003"/>
                </a:cubicBezTo>
                <a:cubicBezTo>
                  <a:pt x="7673" y="6044"/>
                  <a:pt x="7706" y="6086"/>
                  <a:pt x="7739" y="6127"/>
                </a:cubicBezTo>
              </a:path>
              <a:path w="5135" h="894">
                <a:moveTo>
                  <a:pt x="7987" y="5655"/>
                </a:moveTo>
                <a:cubicBezTo>
                  <a:pt x="8098" y="5836"/>
                  <a:pt x="8190" y="5972"/>
                  <a:pt x="8334" y="6127"/>
                </a:cubicBezTo>
              </a:path>
              <a:path w="5135" h="894">
                <a:moveTo>
                  <a:pt x="8310" y="5531"/>
                </a:moveTo>
                <a:cubicBezTo>
                  <a:pt x="8203" y="5743"/>
                  <a:pt x="8165" y="5823"/>
                  <a:pt x="8111" y="5978"/>
                </a:cubicBezTo>
              </a:path>
              <a:path w="5135" h="894">
                <a:moveTo>
                  <a:pt x="8657" y="5457"/>
                </a:moveTo>
                <a:cubicBezTo>
                  <a:pt x="8933" y="5470"/>
                  <a:pt x="9042" y="5683"/>
                  <a:pt x="8905" y="5978"/>
                </a:cubicBezTo>
                <a:cubicBezTo>
                  <a:pt x="8773" y="6132"/>
                  <a:pt x="8749" y="6186"/>
                  <a:pt x="8607" y="6176"/>
                </a:cubicBezTo>
                <a:cubicBezTo>
                  <a:pt x="8617" y="5963"/>
                  <a:pt x="8702" y="5720"/>
                  <a:pt x="8954" y="5928"/>
                </a:cubicBezTo>
                <a:cubicBezTo>
                  <a:pt x="8979" y="5961"/>
                  <a:pt x="9004" y="5995"/>
                  <a:pt x="9029" y="6028"/>
                </a:cubicBezTo>
              </a:path>
              <a:path w="5135" h="894">
                <a:moveTo>
                  <a:pt x="9351" y="5531"/>
                </a:moveTo>
                <a:cubicBezTo>
                  <a:pt x="9464" y="5695"/>
                  <a:pt x="9571" y="5853"/>
                  <a:pt x="9699" y="6003"/>
                </a:cubicBezTo>
              </a:path>
              <a:path w="5135" h="894">
                <a:moveTo>
                  <a:pt x="9525" y="5655"/>
                </a:moveTo>
                <a:cubicBezTo>
                  <a:pt x="9465" y="5878"/>
                  <a:pt x="9450" y="5918"/>
                  <a:pt x="9426" y="6052"/>
                </a:cubicBezTo>
              </a:path>
              <a:path w="5135" h="894">
                <a:moveTo>
                  <a:pt x="10096" y="5358"/>
                </a:moveTo>
                <a:cubicBezTo>
                  <a:pt x="10228" y="5415"/>
                  <a:pt x="10449" y="5536"/>
                  <a:pt x="10468" y="5705"/>
                </a:cubicBezTo>
                <a:cubicBezTo>
                  <a:pt x="10497" y="5960"/>
                  <a:pt x="10161" y="6039"/>
                  <a:pt x="9996" y="6028"/>
                </a:cubicBezTo>
                <a:cubicBezTo>
                  <a:pt x="10094" y="5763"/>
                  <a:pt x="10169" y="5766"/>
                  <a:pt x="10393" y="5953"/>
                </a:cubicBezTo>
                <a:cubicBezTo>
                  <a:pt x="10476" y="6036"/>
                  <a:pt x="10492" y="6052"/>
                  <a:pt x="10542" y="6102"/>
                </a:cubicBezTo>
              </a:path>
              <a:path w="5135" h="894">
                <a:moveTo>
                  <a:pt x="10765" y="5606"/>
                </a:moveTo>
                <a:cubicBezTo>
                  <a:pt x="10898" y="5717"/>
                  <a:pt x="11024" y="5824"/>
                  <a:pt x="11162" y="5928"/>
                </a:cubicBezTo>
              </a:path>
              <a:path w="5135" h="894">
                <a:moveTo>
                  <a:pt x="11063" y="5581"/>
                </a:moveTo>
                <a:cubicBezTo>
                  <a:pt x="10968" y="5819"/>
                  <a:pt x="10938" y="5892"/>
                  <a:pt x="10889" y="6052"/>
                </a:cubicBezTo>
              </a:path>
              <a:path w="5135" h="894">
                <a:moveTo>
                  <a:pt x="11435" y="5432"/>
                </a:moveTo>
                <a:cubicBezTo>
                  <a:pt x="11685" y="5367"/>
                  <a:pt x="11989" y="5344"/>
                  <a:pt x="12030" y="5705"/>
                </a:cubicBezTo>
                <a:cubicBezTo>
                  <a:pt x="12064" y="6011"/>
                  <a:pt x="11872" y="6034"/>
                  <a:pt x="11658" y="6102"/>
                </a:cubicBezTo>
                <a:cubicBezTo>
                  <a:pt x="11625" y="5962"/>
                  <a:pt x="11612" y="5786"/>
                  <a:pt x="11832" y="5879"/>
                </a:cubicBezTo>
                <a:cubicBezTo>
                  <a:pt x="11954" y="5931"/>
                  <a:pt x="12071" y="6009"/>
                  <a:pt x="12154" y="610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77920" y="2286000"/>
            <a:ext cx="223920" cy="36360"/>
          </a:xfrm>
          <a:custGeom>
            <a:avLst/>
            <a:gdLst/>
            <a:ahLst/>
            <a:rect l="l" t="t" r="r" b="b"/>
            <a:pathLst>
              <a:path w="621" h="100">
                <a:moveTo>
                  <a:pt x="3274" y="6449"/>
                </a:moveTo>
                <a:cubicBezTo>
                  <a:pt x="3471" y="6405"/>
                  <a:pt x="3671" y="6378"/>
                  <a:pt x="3870" y="6350"/>
                </a:cubicBezTo>
                <a:cubicBezTo>
                  <a:pt x="3878" y="6350"/>
                  <a:pt x="3886" y="6350"/>
                  <a:pt x="3894" y="63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14760" y="1866960"/>
            <a:ext cx="2544480" cy="704880"/>
          </a:xfrm>
          <a:custGeom>
            <a:avLst/>
            <a:gdLst/>
            <a:ahLst/>
            <a:rect l="l" t="t" r="r" b="b"/>
            <a:pathLst>
              <a:path w="7070" h="1961">
                <a:moveTo>
                  <a:pt x="7565" y="6127"/>
                </a:moveTo>
                <a:cubicBezTo>
                  <a:pt x="7543" y="6288"/>
                  <a:pt x="7569" y="6444"/>
                  <a:pt x="7689" y="6573"/>
                </a:cubicBezTo>
                <a:cubicBezTo>
                  <a:pt x="7795" y="6687"/>
                  <a:pt x="8034" y="6599"/>
                  <a:pt x="8161" y="6573"/>
                </a:cubicBezTo>
                <a:cubicBezTo>
                  <a:pt x="8297" y="6545"/>
                  <a:pt x="8529" y="6523"/>
                  <a:pt x="8632" y="6424"/>
                </a:cubicBezTo>
                <a:cubicBezTo>
                  <a:pt x="8705" y="6354"/>
                  <a:pt x="8744" y="6253"/>
                  <a:pt x="8806" y="6176"/>
                </a:cubicBezTo>
              </a:path>
              <a:path w="7070" h="1961">
                <a:moveTo>
                  <a:pt x="8285" y="6524"/>
                </a:moveTo>
                <a:cubicBezTo>
                  <a:pt x="8278" y="6608"/>
                  <a:pt x="8266" y="6688"/>
                  <a:pt x="8260" y="6772"/>
                </a:cubicBezTo>
                <a:cubicBezTo>
                  <a:pt x="8372" y="6731"/>
                  <a:pt x="8497" y="6708"/>
                  <a:pt x="8607" y="6672"/>
                </a:cubicBezTo>
                <a:cubicBezTo>
                  <a:pt x="8624" y="6664"/>
                  <a:pt x="8640" y="6656"/>
                  <a:pt x="8657" y="6648"/>
                </a:cubicBezTo>
              </a:path>
              <a:path w="7070" h="1961">
                <a:moveTo>
                  <a:pt x="8657" y="6400"/>
                </a:moveTo>
                <a:cubicBezTo>
                  <a:pt x="8635" y="6584"/>
                  <a:pt x="8632" y="6759"/>
                  <a:pt x="8632" y="6945"/>
                </a:cubicBezTo>
              </a:path>
              <a:path w="7070" h="1961">
                <a:moveTo>
                  <a:pt x="8930" y="6796"/>
                </a:moveTo>
                <a:cubicBezTo>
                  <a:pt x="9118" y="6843"/>
                  <a:pt x="9256" y="6868"/>
                  <a:pt x="9451" y="6846"/>
                </a:cubicBezTo>
                <a:cubicBezTo>
                  <a:pt x="9682" y="6820"/>
                  <a:pt x="9888" y="6749"/>
                  <a:pt x="10096" y="6648"/>
                </a:cubicBezTo>
                <a:cubicBezTo>
                  <a:pt x="10245" y="6576"/>
                  <a:pt x="10289" y="6539"/>
                  <a:pt x="10368" y="6424"/>
                </a:cubicBezTo>
              </a:path>
              <a:path w="7070" h="1961">
                <a:moveTo>
                  <a:pt x="10468" y="6648"/>
                </a:moveTo>
                <a:cubicBezTo>
                  <a:pt x="10391" y="6701"/>
                  <a:pt x="10320" y="6763"/>
                  <a:pt x="10244" y="6821"/>
                </a:cubicBezTo>
                <a:cubicBezTo>
                  <a:pt x="10333" y="6855"/>
                  <a:pt x="10674" y="6913"/>
                  <a:pt x="10567" y="7069"/>
                </a:cubicBezTo>
                <a:cubicBezTo>
                  <a:pt x="10502" y="7113"/>
                  <a:pt x="10487" y="7124"/>
                  <a:pt x="10443" y="7144"/>
                </a:cubicBezTo>
                <a:cubicBezTo>
                  <a:pt x="10423" y="6968"/>
                  <a:pt x="10447" y="6941"/>
                  <a:pt x="10542" y="6796"/>
                </a:cubicBezTo>
                <a:cubicBezTo>
                  <a:pt x="10564" y="6753"/>
                  <a:pt x="10577" y="6741"/>
                  <a:pt x="10542" y="6722"/>
                </a:cubicBezTo>
              </a:path>
              <a:path w="7070" h="1961">
                <a:moveTo>
                  <a:pt x="11038" y="6871"/>
                </a:moveTo>
                <a:cubicBezTo>
                  <a:pt x="11236" y="6895"/>
                  <a:pt x="11376" y="6925"/>
                  <a:pt x="11584" y="6896"/>
                </a:cubicBezTo>
                <a:cubicBezTo>
                  <a:pt x="11823" y="6862"/>
                  <a:pt x="11970" y="6766"/>
                  <a:pt x="12105" y="6573"/>
                </a:cubicBezTo>
                <a:cubicBezTo>
                  <a:pt x="12143" y="6519"/>
                  <a:pt x="12195" y="6427"/>
                  <a:pt x="12229" y="6375"/>
                </a:cubicBezTo>
              </a:path>
              <a:path w="7070" h="1961">
                <a:moveTo>
                  <a:pt x="13171" y="5631"/>
                </a:moveTo>
                <a:cubicBezTo>
                  <a:pt x="13193" y="5904"/>
                  <a:pt x="13211" y="6176"/>
                  <a:pt x="13221" y="6449"/>
                </a:cubicBezTo>
                <a:cubicBezTo>
                  <a:pt x="13221" y="6457"/>
                  <a:pt x="13221" y="6466"/>
                  <a:pt x="13221" y="6474"/>
                </a:cubicBezTo>
              </a:path>
              <a:path w="7070" h="1961">
                <a:moveTo>
                  <a:pt x="13593" y="5631"/>
                </a:moveTo>
                <a:cubicBezTo>
                  <a:pt x="13593" y="5802"/>
                  <a:pt x="13595" y="5983"/>
                  <a:pt x="13618" y="6152"/>
                </a:cubicBezTo>
                <a:cubicBezTo>
                  <a:pt x="13643" y="6252"/>
                  <a:pt x="13652" y="6285"/>
                  <a:pt x="13717" y="6325"/>
                </a:cubicBezTo>
                <a:cubicBezTo>
                  <a:pt x="13901" y="6293"/>
                  <a:pt x="14002" y="6230"/>
                  <a:pt x="14089" y="6052"/>
                </a:cubicBezTo>
                <a:cubicBezTo>
                  <a:pt x="14097" y="6027"/>
                  <a:pt x="14106" y="6003"/>
                  <a:pt x="14114" y="5978"/>
                </a:cubicBezTo>
                <a:cubicBezTo>
                  <a:pt x="13917" y="5917"/>
                  <a:pt x="13890" y="6049"/>
                  <a:pt x="13791" y="6226"/>
                </a:cubicBezTo>
              </a:path>
              <a:path w="7070" h="1961">
                <a:moveTo>
                  <a:pt x="12898" y="6573"/>
                </a:moveTo>
                <a:cubicBezTo>
                  <a:pt x="13006" y="6712"/>
                  <a:pt x="13164" y="6778"/>
                  <a:pt x="13345" y="6796"/>
                </a:cubicBezTo>
                <a:cubicBezTo>
                  <a:pt x="13689" y="6831"/>
                  <a:pt x="14284" y="6806"/>
                  <a:pt x="14511" y="6499"/>
                </a:cubicBezTo>
                <a:cubicBezTo>
                  <a:pt x="14646" y="6316"/>
                  <a:pt x="14647" y="5962"/>
                  <a:pt x="14585" y="5755"/>
                </a:cubicBezTo>
                <a:cubicBezTo>
                  <a:pt x="14523" y="5548"/>
                  <a:pt x="14351" y="5285"/>
                  <a:pt x="14139" y="5209"/>
                </a:cubicBezTo>
                <a:cubicBezTo>
                  <a:pt x="13918" y="5130"/>
                  <a:pt x="13597" y="5176"/>
                  <a:pt x="13370" y="5209"/>
                </a:cubicBezTo>
                <a:cubicBezTo>
                  <a:pt x="13190" y="5235"/>
                  <a:pt x="12993" y="5316"/>
                  <a:pt x="12849" y="5432"/>
                </a:cubicBezTo>
                <a:cubicBezTo>
                  <a:pt x="12699" y="5552"/>
                  <a:pt x="12680" y="5753"/>
                  <a:pt x="12675" y="5928"/>
                </a:cubicBezTo>
                <a:cubicBezTo>
                  <a:pt x="12669" y="6134"/>
                  <a:pt x="12636" y="6410"/>
                  <a:pt x="12799" y="6573"/>
                </a:cubicBezTo>
                <a:cubicBezTo>
                  <a:pt x="12919" y="6694"/>
                  <a:pt x="13098" y="6659"/>
                  <a:pt x="13246" y="6697"/>
                </a:cubicBezTo>
                <a:cubicBezTo>
                  <a:pt x="13262" y="6705"/>
                  <a:pt x="13279" y="6714"/>
                  <a:pt x="13295" y="672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64040" y="2938320"/>
            <a:ext cx="1528920" cy="293760"/>
          </a:xfrm>
          <a:custGeom>
            <a:avLst/>
            <a:gdLst/>
            <a:ahLst/>
            <a:rect l="l" t="t" r="r" b="b"/>
            <a:pathLst>
              <a:path w="4243" h="819">
                <a:moveTo>
                  <a:pt x="13791" y="8384"/>
                </a:moveTo>
                <a:cubicBezTo>
                  <a:pt x="13899" y="8358"/>
                  <a:pt x="14389" y="8249"/>
                  <a:pt x="14238" y="8558"/>
                </a:cubicBezTo>
                <a:cubicBezTo>
                  <a:pt x="14121" y="8652"/>
                  <a:pt x="14087" y="8682"/>
                  <a:pt x="13990" y="8706"/>
                </a:cubicBezTo>
                <a:cubicBezTo>
                  <a:pt x="14023" y="8673"/>
                  <a:pt x="14056" y="8640"/>
                  <a:pt x="14089" y="8607"/>
                </a:cubicBezTo>
                <a:cubicBezTo>
                  <a:pt x="14326" y="8737"/>
                  <a:pt x="14337" y="8930"/>
                  <a:pt x="13990" y="8979"/>
                </a:cubicBezTo>
                <a:cubicBezTo>
                  <a:pt x="13932" y="8971"/>
                  <a:pt x="13874" y="8962"/>
                  <a:pt x="13816" y="8954"/>
                </a:cubicBezTo>
              </a:path>
              <a:path w="4243" h="819">
                <a:moveTo>
                  <a:pt x="14536" y="8434"/>
                </a:moveTo>
                <a:cubicBezTo>
                  <a:pt x="14641" y="8617"/>
                  <a:pt x="14678" y="8686"/>
                  <a:pt x="14709" y="8830"/>
                </a:cubicBezTo>
              </a:path>
              <a:path w="4243" h="819">
                <a:moveTo>
                  <a:pt x="14808" y="8483"/>
                </a:moveTo>
                <a:cubicBezTo>
                  <a:pt x="14670" y="8669"/>
                  <a:pt x="14628" y="8722"/>
                  <a:pt x="14560" y="8855"/>
                </a:cubicBezTo>
              </a:path>
              <a:path w="4243" h="819">
                <a:moveTo>
                  <a:pt x="15156" y="8384"/>
                </a:moveTo>
                <a:cubicBezTo>
                  <a:pt x="15210" y="8379"/>
                  <a:pt x="15619" y="8296"/>
                  <a:pt x="15528" y="8483"/>
                </a:cubicBezTo>
                <a:cubicBezTo>
                  <a:pt x="15484" y="8575"/>
                  <a:pt x="15314" y="8634"/>
                  <a:pt x="15230" y="8657"/>
                </a:cubicBezTo>
                <a:cubicBezTo>
                  <a:pt x="15344" y="8563"/>
                  <a:pt x="15699" y="8552"/>
                  <a:pt x="15528" y="8830"/>
                </a:cubicBezTo>
                <a:cubicBezTo>
                  <a:pt x="15382" y="9068"/>
                  <a:pt x="15177" y="8952"/>
                  <a:pt x="15106" y="8781"/>
                </a:cubicBezTo>
              </a:path>
              <a:path w="4243" h="819">
                <a:moveTo>
                  <a:pt x="15850" y="8359"/>
                </a:moveTo>
                <a:cubicBezTo>
                  <a:pt x="15928" y="8508"/>
                  <a:pt x="16004" y="8654"/>
                  <a:pt x="16073" y="8806"/>
                </a:cubicBezTo>
              </a:path>
              <a:path w="4243" h="819">
                <a:moveTo>
                  <a:pt x="16173" y="8359"/>
                </a:moveTo>
                <a:cubicBezTo>
                  <a:pt x="16070" y="8564"/>
                  <a:pt x="16034" y="8637"/>
                  <a:pt x="15974" y="8781"/>
                </a:cubicBezTo>
              </a:path>
              <a:path w="4243" h="819">
                <a:moveTo>
                  <a:pt x="16297" y="8310"/>
                </a:moveTo>
                <a:cubicBezTo>
                  <a:pt x="16356" y="8287"/>
                  <a:pt x="16727" y="8128"/>
                  <a:pt x="16743" y="8285"/>
                </a:cubicBezTo>
                <a:cubicBezTo>
                  <a:pt x="16758" y="8435"/>
                  <a:pt x="16567" y="8501"/>
                  <a:pt x="16470" y="8558"/>
                </a:cubicBezTo>
                <a:cubicBezTo>
                  <a:pt x="16631" y="8453"/>
                  <a:pt x="16980" y="8535"/>
                  <a:pt x="16718" y="8731"/>
                </a:cubicBezTo>
                <a:cubicBezTo>
                  <a:pt x="16532" y="8802"/>
                  <a:pt x="16478" y="8827"/>
                  <a:pt x="16346" y="8806"/>
                </a:cubicBezTo>
              </a:path>
              <a:path w="4243" h="819">
                <a:moveTo>
                  <a:pt x="17165" y="8458"/>
                </a:moveTo>
                <a:cubicBezTo>
                  <a:pt x="17269" y="8626"/>
                  <a:pt x="17289" y="8662"/>
                  <a:pt x="17363" y="8756"/>
                </a:cubicBezTo>
              </a:path>
              <a:path w="4243" h="819">
                <a:moveTo>
                  <a:pt x="17314" y="8285"/>
                </a:moveTo>
                <a:cubicBezTo>
                  <a:pt x="17289" y="8351"/>
                  <a:pt x="17264" y="8417"/>
                  <a:pt x="17239" y="8483"/>
                </a:cubicBezTo>
              </a:path>
              <a:path w="4243" h="819">
                <a:moveTo>
                  <a:pt x="17611" y="8235"/>
                </a:moveTo>
                <a:cubicBezTo>
                  <a:pt x="17642" y="8226"/>
                  <a:pt x="18163" y="8098"/>
                  <a:pt x="17983" y="8285"/>
                </a:cubicBezTo>
                <a:cubicBezTo>
                  <a:pt x="17903" y="8368"/>
                  <a:pt x="17763" y="8391"/>
                  <a:pt x="17661" y="8434"/>
                </a:cubicBezTo>
                <a:cubicBezTo>
                  <a:pt x="17819" y="8442"/>
                  <a:pt x="17898" y="8461"/>
                  <a:pt x="18033" y="8533"/>
                </a:cubicBezTo>
                <a:cubicBezTo>
                  <a:pt x="17922" y="8726"/>
                  <a:pt x="17811" y="8716"/>
                  <a:pt x="17611" y="863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43800" y="2928960"/>
            <a:ext cx="411120" cy="214200"/>
          </a:xfrm>
          <a:custGeom>
            <a:avLst/>
            <a:gdLst/>
            <a:ahLst/>
            <a:rect l="l" t="t" r="r" b="b"/>
            <a:pathLst>
              <a:path w="1142" h="596">
                <a:moveTo>
                  <a:pt x="18455" y="8210"/>
                </a:moveTo>
                <a:cubicBezTo>
                  <a:pt x="18579" y="8366"/>
                  <a:pt x="18662" y="8525"/>
                  <a:pt x="18752" y="8706"/>
                </a:cubicBezTo>
              </a:path>
              <a:path w="1142" h="596">
                <a:moveTo>
                  <a:pt x="18777" y="8235"/>
                </a:moveTo>
                <a:cubicBezTo>
                  <a:pt x="18682" y="8392"/>
                  <a:pt x="18588" y="8535"/>
                  <a:pt x="18479" y="8682"/>
                </a:cubicBezTo>
              </a:path>
              <a:path w="1142" h="596">
                <a:moveTo>
                  <a:pt x="19149" y="8186"/>
                </a:moveTo>
                <a:cubicBezTo>
                  <a:pt x="19226" y="8163"/>
                  <a:pt x="19600" y="8038"/>
                  <a:pt x="19521" y="8260"/>
                </a:cubicBezTo>
                <a:cubicBezTo>
                  <a:pt x="19432" y="8349"/>
                  <a:pt x="19389" y="8383"/>
                  <a:pt x="19298" y="8409"/>
                </a:cubicBezTo>
                <a:cubicBezTo>
                  <a:pt x="19243" y="8462"/>
                  <a:pt x="19529" y="8307"/>
                  <a:pt x="19596" y="8533"/>
                </a:cubicBezTo>
                <a:cubicBezTo>
                  <a:pt x="19660" y="8750"/>
                  <a:pt x="19244" y="8716"/>
                  <a:pt x="19149" y="87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15120" y="2857680"/>
            <a:ext cx="973080" cy="295200"/>
          </a:xfrm>
          <a:custGeom>
            <a:avLst/>
            <a:gdLst/>
            <a:ahLst/>
            <a:rect l="l" t="t" r="r" b="b"/>
            <a:pathLst>
              <a:path w="2705" h="819">
                <a:moveTo>
                  <a:pt x="20042" y="8310"/>
                </a:moveTo>
                <a:cubicBezTo>
                  <a:pt x="20128" y="8454"/>
                  <a:pt x="20196" y="8538"/>
                  <a:pt x="20315" y="8657"/>
                </a:cubicBezTo>
              </a:path>
              <a:path w="2705" h="819">
                <a:moveTo>
                  <a:pt x="20389" y="8285"/>
                </a:moveTo>
                <a:cubicBezTo>
                  <a:pt x="20256" y="8339"/>
                  <a:pt x="20145" y="8544"/>
                  <a:pt x="20042" y="8657"/>
                </a:cubicBezTo>
              </a:path>
              <a:path w="2705" h="819">
                <a:moveTo>
                  <a:pt x="20762" y="7938"/>
                </a:moveTo>
                <a:cubicBezTo>
                  <a:pt x="20831" y="7952"/>
                  <a:pt x="21293" y="7987"/>
                  <a:pt x="21233" y="8111"/>
                </a:cubicBezTo>
                <a:cubicBezTo>
                  <a:pt x="21173" y="8235"/>
                  <a:pt x="20997" y="8245"/>
                  <a:pt x="20886" y="8260"/>
                </a:cubicBezTo>
                <a:cubicBezTo>
                  <a:pt x="21094" y="8292"/>
                  <a:pt x="21146" y="8284"/>
                  <a:pt x="21233" y="8458"/>
                </a:cubicBezTo>
                <a:cubicBezTo>
                  <a:pt x="21039" y="8602"/>
                  <a:pt x="21027" y="8592"/>
                  <a:pt x="20786" y="8558"/>
                </a:cubicBezTo>
              </a:path>
              <a:path w="2705" h="819">
                <a:moveTo>
                  <a:pt x="21605" y="8086"/>
                </a:moveTo>
                <a:cubicBezTo>
                  <a:pt x="21681" y="8265"/>
                  <a:pt x="21707" y="8328"/>
                  <a:pt x="21729" y="8458"/>
                </a:cubicBezTo>
              </a:path>
              <a:path w="2705" h="819">
                <a:moveTo>
                  <a:pt x="21903" y="8186"/>
                </a:moveTo>
                <a:cubicBezTo>
                  <a:pt x="21828" y="8252"/>
                  <a:pt x="21754" y="8318"/>
                  <a:pt x="21679" y="8384"/>
                </a:cubicBezTo>
              </a:path>
              <a:path w="2705" h="819">
                <a:moveTo>
                  <a:pt x="22225" y="8136"/>
                </a:moveTo>
                <a:cubicBezTo>
                  <a:pt x="22327" y="8108"/>
                  <a:pt x="22595" y="8047"/>
                  <a:pt x="22671" y="8161"/>
                </a:cubicBezTo>
                <a:cubicBezTo>
                  <a:pt x="22760" y="8293"/>
                  <a:pt x="22341" y="8436"/>
                  <a:pt x="22275" y="8458"/>
                </a:cubicBezTo>
                <a:cubicBezTo>
                  <a:pt x="22521" y="8384"/>
                  <a:pt x="22584" y="8411"/>
                  <a:pt x="22746" y="8582"/>
                </a:cubicBezTo>
                <a:cubicBezTo>
                  <a:pt x="22526" y="8777"/>
                  <a:pt x="22398" y="8784"/>
                  <a:pt x="22126" y="868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97320" y="3160800"/>
            <a:ext cx="3402000" cy="696960"/>
          </a:xfrm>
          <a:custGeom>
            <a:avLst/>
            <a:gdLst/>
            <a:ahLst/>
            <a:rect l="l" t="t" r="r" b="b"/>
            <a:pathLst>
              <a:path w="9452" h="1936">
                <a:moveTo>
                  <a:pt x="14436" y="8979"/>
                </a:moveTo>
                <a:cubicBezTo>
                  <a:pt x="14554" y="9178"/>
                  <a:pt x="14661" y="9333"/>
                  <a:pt x="14932" y="9277"/>
                </a:cubicBezTo>
                <a:cubicBezTo>
                  <a:pt x="15080" y="9246"/>
                  <a:pt x="15187" y="9172"/>
                  <a:pt x="15205" y="9029"/>
                </a:cubicBezTo>
              </a:path>
              <a:path w="9452" h="1936">
                <a:moveTo>
                  <a:pt x="15404" y="9351"/>
                </a:moveTo>
                <a:cubicBezTo>
                  <a:pt x="15504" y="9295"/>
                  <a:pt x="15496" y="9262"/>
                  <a:pt x="15478" y="9153"/>
                </a:cubicBezTo>
                <a:cubicBezTo>
                  <a:pt x="15396" y="9125"/>
                  <a:pt x="15116" y="9105"/>
                  <a:pt x="15156" y="9302"/>
                </a:cubicBezTo>
                <a:cubicBezTo>
                  <a:pt x="15186" y="9452"/>
                  <a:pt x="15439" y="9259"/>
                  <a:pt x="15478" y="9227"/>
                </a:cubicBezTo>
                <a:cubicBezTo>
                  <a:pt x="15441" y="9230"/>
                  <a:pt x="15414" y="9470"/>
                  <a:pt x="15404" y="9575"/>
                </a:cubicBezTo>
              </a:path>
              <a:path w="9452" h="1936">
                <a:moveTo>
                  <a:pt x="15900" y="9252"/>
                </a:moveTo>
                <a:cubicBezTo>
                  <a:pt x="15995" y="9404"/>
                  <a:pt x="16208" y="9375"/>
                  <a:pt x="16371" y="9277"/>
                </a:cubicBezTo>
                <a:cubicBezTo>
                  <a:pt x="16469" y="9218"/>
                  <a:pt x="16497" y="9159"/>
                  <a:pt x="16470" y="9079"/>
                </a:cubicBezTo>
              </a:path>
              <a:path w="9452" h="1936">
                <a:moveTo>
                  <a:pt x="16570" y="9451"/>
                </a:moveTo>
                <a:cubicBezTo>
                  <a:pt x="16694" y="9413"/>
                  <a:pt x="16785" y="9424"/>
                  <a:pt x="16793" y="9599"/>
                </a:cubicBezTo>
                <a:cubicBezTo>
                  <a:pt x="16800" y="9751"/>
                  <a:pt x="16643" y="9891"/>
                  <a:pt x="16520" y="9748"/>
                </a:cubicBezTo>
                <a:cubicBezTo>
                  <a:pt x="16497" y="9681"/>
                  <a:pt x="16486" y="9663"/>
                  <a:pt x="16520" y="9624"/>
                </a:cubicBezTo>
                <a:cubicBezTo>
                  <a:pt x="16647" y="9613"/>
                  <a:pt x="16641" y="9629"/>
                  <a:pt x="16743" y="9723"/>
                </a:cubicBezTo>
              </a:path>
              <a:path w="9452" h="1936">
                <a:moveTo>
                  <a:pt x="16966" y="9401"/>
                </a:moveTo>
                <a:cubicBezTo>
                  <a:pt x="17175" y="9317"/>
                  <a:pt x="17184" y="9391"/>
                  <a:pt x="17165" y="9624"/>
                </a:cubicBezTo>
                <a:cubicBezTo>
                  <a:pt x="17146" y="9718"/>
                  <a:pt x="17159" y="9738"/>
                  <a:pt x="17115" y="9773"/>
                </a:cubicBezTo>
              </a:path>
              <a:path w="9452" h="1936">
                <a:moveTo>
                  <a:pt x="17438" y="9426"/>
                </a:moveTo>
                <a:cubicBezTo>
                  <a:pt x="17636" y="9463"/>
                  <a:pt x="17789" y="9430"/>
                  <a:pt x="17934" y="9252"/>
                </a:cubicBezTo>
                <a:cubicBezTo>
                  <a:pt x="17977" y="9199"/>
                  <a:pt x="17997" y="9119"/>
                  <a:pt x="18008" y="9054"/>
                </a:cubicBezTo>
              </a:path>
              <a:path w="9452" h="1936">
                <a:moveTo>
                  <a:pt x="18405" y="9401"/>
                </a:moveTo>
                <a:cubicBezTo>
                  <a:pt x="18277" y="9371"/>
                  <a:pt x="18256" y="9379"/>
                  <a:pt x="18132" y="9426"/>
                </a:cubicBezTo>
                <a:cubicBezTo>
                  <a:pt x="18178" y="9525"/>
                  <a:pt x="18311" y="9654"/>
                  <a:pt x="18231" y="9773"/>
                </a:cubicBezTo>
                <a:cubicBezTo>
                  <a:pt x="18206" y="9790"/>
                  <a:pt x="18182" y="9806"/>
                  <a:pt x="18157" y="9823"/>
                </a:cubicBezTo>
                <a:cubicBezTo>
                  <a:pt x="17987" y="9799"/>
                  <a:pt x="18174" y="9619"/>
                  <a:pt x="18231" y="9550"/>
                </a:cubicBezTo>
                <a:cubicBezTo>
                  <a:pt x="18256" y="9525"/>
                  <a:pt x="18281" y="9500"/>
                  <a:pt x="18306" y="9475"/>
                </a:cubicBezTo>
              </a:path>
              <a:path w="9452" h="1936">
                <a:moveTo>
                  <a:pt x="18504" y="9426"/>
                </a:moveTo>
                <a:cubicBezTo>
                  <a:pt x="18504" y="9548"/>
                  <a:pt x="18503" y="9656"/>
                  <a:pt x="18479" y="9773"/>
                </a:cubicBezTo>
              </a:path>
              <a:path w="9452" h="1936">
                <a:moveTo>
                  <a:pt x="19000" y="9451"/>
                </a:moveTo>
                <a:cubicBezTo>
                  <a:pt x="19146" y="9378"/>
                  <a:pt x="19238" y="9273"/>
                  <a:pt x="19323" y="9128"/>
                </a:cubicBezTo>
                <a:cubicBezTo>
                  <a:pt x="19390" y="9014"/>
                  <a:pt x="19388" y="9017"/>
                  <a:pt x="19323" y="8930"/>
                </a:cubicBezTo>
              </a:path>
              <a:path w="9452" h="1936">
                <a:moveTo>
                  <a:pt x="19348" y="9624"/>
                </a:moveTo>
                <a:cubicBezTo>
                  <a:pt x="19406" y="9582"/>
                  <a:pt x="19539" y="9488"/>
                  <a:pt x="19621" y="9525"/>
                </a:cubicBezTo>
                <a:cubicBezTo>
                  <a:pt x="19637" y="9542"/>
                  <a:pt x="19654" y="9558"/>
                  <a:pt x="19670" y="9575"/>
                </a:cubicBezTo>
                <a:cubicBezTo>
                  <a:pt x="19654" y="9732"/>
                  <a:pt x="19599" y="9931"/>
                  <a:pt x="19372" y="9847"/>
                </a:cubicBezTo>
                <a:cubicBezTo>
                  <a:pt x="19347" y="9822"/>
                  <a:pt x="19323" y="9798"/>
                  <a:pt x="19298" y="9773"/>
                </a:cubicBezTo>
                <a:cubicBezTo>
                  <a:pt x="19366" y="9638"/>
                  <a:pt x="19457" y="9546"/>
                  <a:pt x="19621" y="9649"/>
                </a:cubicBezTo>
                <a:cubicBezTo>
                  <a:pt x="19621" y="9657"/>
                  <a:pt x="19621" y="9666"/>
                  <a:pt x="19621" y="9674"/>
                </a:cubicBezTo>
              </a:path>
              <a:path w="9452" h="1936">
                <a:moveTo>
                  <a:pt x="19869" y="9351"/>
                </a:moveTo>
                <a:cubicBezTo>
                  <a:pt x="19869" y="9425"/>
                  <a:pt x="19839" y="9519"/>
                  <a:pt x="19918" y="9550"/>
                </a:cubicBezTo>
                <a:cubicBezTo>
                  <a:pt x="19951" y="9558"/>
                  <a:pt x="19984" y="9567"/>
                  <a:pt x="20017" y="9575"/>
                </a:cubicBezTo>
              </a:path>
              <a:path w="9452" h="1936">
                <a:moveTo>
                  <a:pt x="20191" y="9351"/>
                </a:moveTo>
                <a:cubicBezTo>
                  <a:pt x="20108" y="9511"/>
                  <a:pt x="20059" y="9625"/>
                  <a:pt x="20017" y="9798"/>
                </a:cubicBezTo>
              </a:path>
              <a:path w="9452" h="1936">
                <a:moveTo>
                  <a:pt x="20265" y="9376"/>
                </a:moveTo>
                <a:cubicBezTo>
                  <a:pt x="20295" y="9363"/>
                  <a:pt x="20414" y="9317"/>
                  <a:pt x="20439" y="9351"/>
                </a:cubicBezTo>
                <a:cubicBezTo>
                  <a:pt x="20521" y="9464"/>
                  <a:pt x="20423" y="9503"/>
                  <a:pt x="20340" y="9550"/>
                </a:cubicBezTo>
                <a:cubicBezTo>
                  <a:pt x="20285" y="9523"/>
                  <a:pt x="20424" y="9477"/>
                  <a:pt x="20464" y="9525"/>
                </a:cubicBezTo>
                <a:cubicBezTo>
                  <a:pt x="20555" y="9634"/>
                  <a:pt x="20431" y="9793"/>
                  <a:pt x="20315" y="9798"/>
                </a:cubicBezTo>
                <a:cubicBezTo>
                  <a:pt x="20238" y="9801"/>
                  <a:pt x="20215" y="9721"/>
                  <a:pt x="20191" y="9674"/>
                </a:cubicBezTo>
              </a:path>
              <a:path w="9452" h="1936">
                <a:moveTo>
                  <a:pt x="20662" y="9426"/>
                </a:moveTo>
                <a:cubicBezTo>
                  <a:pt x="20791" y="9404"/>
                  <a:pt x="20898" y="9325"/>
                  <a:pt x="20935" y="9178"/>
                </a:cubicBezTo>
                <a:cubicBezTo>
                  <a:pt x="20964" y="9063"/>
                  <a:pt x="20950" y="8902"/>
                  <a:pt x="20960" y="8781"/>
                </a:cubicBezTo>
              </a:path>
              <a:path w="9452" h="1936">
                <a:moveTo>
                  <a:pt x="20786" y="9674"/>
                </a:moveTo>
                <a:cubicBezTo>
                  <a:pt x="20897" y="9656"/>
                  <a:pt x="20993" y="9649"/>
                  <a:pt x="21109" y="9649"/>
                </a:cubicBezTo>
                <a:cubicBezTo>
                  <a:pt x="21125" y="9649"/>
                  <a:pt x="21142" y="9649"/>
                  <a:pt x="21158" y="9649"/>
                </a:cubicBezTo>
                <a:cubicBezTo>
                  <a:pt x="21117" y="9800"/>
                  <a:pt x="21080" y="9920"/>
                  <a:pt x="20985" y="10046"/>
                </a:cubicBezTo>
              </a:path>
              <a:path w="9452" h="1936">
                <a:moveTo>
                  <a:pt x="21307" y="9649"/>
                </a:moveTo>
                <a:cubicBezTo>
                  <a:pt x="21444" y="9661"/>
                  <a:pt x="21506" y="9745"/>
                  <a:pt x="21506" y="9897"/>
                </a:cubicBezTo>
                <a:cubicBezTo>
                  <a:pt x="21506" y="10009"/>
                  <a:pt x="21336" y="9980"/>
                  <a:pt x="21282" y="9971"/>
                </a:cubicBezTo>
                <a:cubicBezTo>
                  <a:pt x="21284" y="9859"/>
                  <a:pt x="21392" y="9846"/>
                  <a:pt x="21506" y="9897"/>
                </a:cubicBezTo>
                <a:cubicBezTo>
                  <a:pt x="21514" y="9905"/>
                  <a:pt x="21522" y="9914"/>
                  <a:pt x="21530" y="9922"/>
                </a:cubicBezTo>
              </a:path>
              <a:path w="9452" h="1936">
                <a:moveTo>
                  <a:pt x="22051" y="9649"/>
                </a:moveTo>
                <a:cubicBezTo>
                  <a:pt x="22006" y="9550"/>
                  <a:pt x="21927" y="9426"/>
                  <a:pt x="21803" y="9550"/>
                </a:cubicBezTo>
                <a:cubicBezTo>
                  <a:pt x="21735" y="9618"/>
                  <a:pt x="21889" y="9552"/>
                  <a:pt x="21952" y="9624"/>
                </a:cubicBezTo>
                <a:cubicBezTo>
                  <a:pt x="21995" y="9673"/>
                  <a:pt x="21910" y="9914"/>
                  <a:pt x="21903" y="9971"/>
                </a:cubicBezTo>
              </a:path>
              <a:path w="9452" h="1936">
                <a:moveTo>
                  <a:pt x="22324" y="9426"/>
                </a:moveTo>
                <a:cubicBezTo>
                  <a:pt x="22436" y="9361"/>
                  <a:pt x="22517" y="9331"/>
                  <a:pt x="22597" y="9227"/>
                </a:cubicBezTo>
                <a:cubicBezTo>
                  <a:pt x="22681" y="9118"/>
                  <a:pt x="22727" y="9016"/>
                  <a:pt x="22746" y="8880"/>
                </a:cubicBezTo>
              </a:path>
              <a:path w="9452" h="1936">
                <a:moveTo>
                  <a:pt x="21654" y="10269"/>
                </a:moveTo>
                <a:cubicBezTo>
                  <a:pt x="21765" y="10214"/>
                  <a:pt x="21784" y="10212"/>
                  <a:pt x="21903" y="10220"/>
                </a:cubicBezTo>
                <a:cubicBezTo>
                  <a:pt x="21935" y="10447"/>
                  <a:pt x="21837" y="10542"/>
                  <a:pt x="21605" y="10592"/>
                </a:cubicBezTo>
                <a:cubicBezTo>
                  <a:pt x="21564" y="10592"/>
                  <a:pt x="21522" y="10592"/>
                  <a:pt x="21481" y="10592"/>
                </a:cubicBezTo>
                <a:cubicBezTo>
                  <a:pt x="21501" y="10428"/>
                  <a:pt x="21551" y="10323"/>
                  <a:pt x="21754" y="10393"/>
                </a:cubicBezTo>
                <a:cubicBezTo>
                  <a:pt x="21852" y="10452"/>
                  <a:pt x="21867" y="10464"/>
                  <a:pt x="21927" y="10492"/>
                </a:cubicBezTo>
              </a:path>
              <a:path w="9452" h="1936">
                <a:moveTo>
                  <a:pt x="22275" y="10145"/>
                </a:moveTo>
                <a:cubicBezTo>
                  <a:pt x="22290" y="10268"/>
                  <a:pt x="22281" y="10388"/>
                  <a:pt x="22275" y="10517"/>
                </a:cubicBezTo>
              </a:path>
              <a:path w="9452" h="1936">
                <a:moveTo>
                  <a:pt x="22820" y="10021"/>
                </a:moveTo>
                <a:cubicBezTo>
                  <a:pt x="22722" y="10030"/>
                  <a:pt x="22674" y="10047"/>
                  <a:pt x="22597" y="10096"/>
                </a:cubicBezTo>
                <a:cubicBezTo>
                  <a:pt x="22642" y="10168"/>
                  <a:pt x="22849" y="10350"/>
                  <a:pt x="22796" y="10418"/>
                </a:cubicBezTo>
                <a:cubicBezTo>
                  <a:pt x="22724" y="10466"/>
                  <a:pt x="22703" y="10484"/>
                  <a:pt x="22647" y="10443"/>
                </a:cubicBezTo>
                <a:cubicBezTo>
                  <a:pt x="22646" y="10268"/>
                  <a:pt x="22740" y="10213"/>
                  <a:pt x="22845" y="10071"/>
                </a:cubicBezTo>
                <a:cubicBezTo>
                  <a:pt x="22853" y="10054"/>
                  <a:pt x="22862" y="10038"/>
                  <a:pt x="22870" y="10021"/>
                </a:cubicBezTo>
              </a:path>
              <a:path w="9452" h="1936">
                <a:moveTo>
                  <a:pt x="23093" y="9947"/>
                </a:moveTo>
                <a:cubicBezTo>
                  <a:pt x="23198" y="9882"/>
                  <a:pt x="23231" y="9865"/>
                  <a:pt x="23341" y="9872"/>
                </a:cubicBezTo>
                <a:cubicBezTo>
                  <a:pt x="23382" y="9875"/>
                  <a:pt x="23424" y="9872"/>
                  <a:pt x="23465" y="9872"/>
                </a:cubicBezTo>
                <a:cubicBezTo>
                  <a:pt x="23375" y="10052"/>
                  <a:pt x="23254" y="10221"/>
                  <a:pt x="23143" y="10393"/>
                </a:cubicBezTo>
              </a:path>
              <a:path w="9452" h="1936">
                <a:moveTo>
                  <a:pt x="21134" y="10641"/>
                </a:moveTo>
                <a:cubicBezTo>
                  <a:pt x="21409" y="10693"/>
                  <a:pt x="21719" y="10705"/>
                  <a:pt x="22002" y="10716"/>
                </a:cubicBezTo>
                <a:cubicBezTo>
                  <a:pt x="22368" y="10730"/>
                  <a:pt x="22710" y="10695"/>
                  <a:pt x="23068" y="10616"/>
                </a:cubicBezTo>
                <a:cubicBezTo>
                  <a:pt x="23310" y="10563"/>
                  <a:pt x="23515" y="10489"/>
                  <a:pt x="23713" y="10344"/>
                </a:cubicBezTo>
                <a:cubicBezTo>
                  <a:pt x="23797" y="10283"/>
                  <a:pt x="23861" y="10170"/>
                  <a:pt x="23887" y="10071"/>
                </a:cubicBezTo>
                <a:cubicBezTo>
                  <a:pt x="23917" y="9957"/>
                  <a:pt x="23831" y="9824"/>
                  <a:pt x="23763" y="9748"/>
                </a:cubicBezTo>
                <a:cubicBezTo>
                  <a:pt x="23561" y="9522"/>
                  <a:pt x="23328" y="9512"/>
                  <a:pt x="23044" y="9475"/>
                </a:cubicBezTo>
                <a:cubicBezTo>
                  <a:pt x="22578" y="9415"/>
                  <a:pt x="22212" y="9532"/>
                  <a:pt x="21828" y="9798"/>
                </a:cubicBezTo>
                <a:cubicBezTo>
                  <a:pt x="21671" y="9906"/>
                  <a:pt x="21523" y="10090"/>
                  <a:pt x="21456" y="10269"/>
                </a:cubicBezTo>
                <a:cubicBezTo>
                  <a:pt x="21397" y="10427"/>
                  <a:pt x="21424" y="10523"/>
                  <a:pt x="21555" y="10616"/>
                </a:cubicBezTo>
                <a:cubicBezTo>
                  <a:pt x="21667" y="10684"/>
                  <a:pt x="21695" y="10705"/>
                  <a:pt x="21779" y="1071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87760" y="3643200"/>
            <a:ext cx="1760400" cy="669960"/>
          </a:xfrm>
          <a:custGeom>
            <a:avLst/>
            <a:gdLst/>
            <a:ahLst/>
            <a:rect l="l" t="t" r="r" b="b"/>
            <a:pathLst>
              <a:path w="4888" h="1862">
                <a:moveTo>
                  <a:pt x="7888" y="11038"/>
                </a:moveTo>
                <a:cubicBezTo>
                  <a:pt x="7860" y="10846"/>
                  <a:pt x="7776" y="10568"/>
                  <a:pt x="7541" y="10815"/>
                </a:cubicBezTo>
                <a:cubicBezTo>
                  <a:pt x="7472" y="10952"/>
                  <a:pt x="7444" y="10988"/>
                  <a:pt x="7491" y="11088"/>
                </a:cubicBezTo>
                <a:cubicBezTo>
                  <a:pt x="7767" y="11099"/>
                  <a:pt x="7793" y="11041"/>
                  <a:pt x="7913" y="10790"/>
                </a:cubicBezTo>
                <a:cubicBezTo>
                  <a:pt x="7913" y="10998"/>
                  <a:pt x="7930" y="11204"/>
                  <a:pt x="7962" y="11410"/>
                </a:cubicBezTo>
                <a:cubicBezTo>
                  <a:pt x="7970" y="11451"/>
                  <a:pt x="7979" y="11493"/>
                  <a:pt x="7987" y="11534"/>
                </a:cubicBezTo>
              </a:path>
              <a:path w="4888" h="1862">
                <a:moveTo>
                  <a:pt x="8334" y="10840"/>
                </a:moveTo>
                <a:cubicBezTo>
                  <a:pt x="8447" y="11003"/>
                  <a:pt x="8554" y="11167"/>
                  <a:pt x="8657" y="11336"/>
                </a:cubicBezTo>
              </a:path>
              <a:path w="4888" h="1862">
                <a:moveTo>
                  <a:pt x="8706" y="10790"/>
                </a:moveTo>
                <a:cubicBezTo>
                  <a:pt x="8618" y="10988"/>
                  <a:pt x="8533" y="11183"/>
                  <a:pt x="8458" y="11385"/>
                </a:cubicBezTo>
              </a:path>
              <a:path w="4888" h="1862">
                <a:moveTo>
                  <a:pt x="9426" y="10914"/>
                </a:moveTo>
                <a:cubicBezTo>
                  <a:pt x="9426" y="10783"/>
                  <a:pt x="9417" y="10783"/>
                  <a:pt x="9351" y="10666"/>
                </a:cubicBezTo>
                <a:cubicBezTo>
                  <a:pt x="9193" y="10651"/>
                  <a:pt x="8845" y="10762"/>
                  <a:pt x="8979" y="11038"/>
                </a:cubicBezTo>
                <a:cubicBezTo>
                  <a:pt x="9083" y="11251"/>
                  <a:pt x="9307" y="10868"/>
                  <a:pt x="9351" y="10815"/>
                </a:cubicBezTo>
                <a:cubicBezTo>
                  <a:pt x="9359" y="10807"/>
                  <a:pt x="9368" y="10798"/>
                  <a:pt x="9376" y="10790"/>
                </a:cubicBezTo>
                <a:cubicBezTo>
                  <a:pt x="9419" y="11016"/>
                  <a:pt x="9444" y="11256"/>
                  <a:pt x="9401" y="11485"/>
                </a:cubicBezTo>
                <a:cubicBezTo>
                  <a:pt x="9393" y="11493"/>
                  <a:pt x="9384" y="11501"/>
                  <a:pt x="9376" y="11509"/>
                </a:cubicBezTo>
              </a:path>
              <a:path w="4888" h="1862">
                <a:moveTo>
                  <a:pt x="9872" y="11088"/>
                </a:moveTo>
                <a:cubicBezTo>
                  <a:pt x="9997" y="11067"/>
                  <a:pt x="10102" y="11043"/>
                  <a:pt x="10220" y="11063"/>
                </a:cubicBezTo>
              </a:path>
              <a:path w="4888" h="1862">
                <a:moveTo>
                  <a:pt x="9823" y="11261"/>
                </a:moveTo>
                <a:cubicBezTo>
                  <a:pt x="9931" y="11255"/>
                  <a:pt x="10037" y="11244"/>
                  <a:pt x="10145" y="11237"/>
                </a:cubicBezTo>
              </a:path>
              <a:path w="4888" h="1862">
                <a:moveTo>
                  <a:pt x="11286" y="10790"/>
                </a:moveTo>
                <a:cubicBezTo>
                  <a:pt x="11061" y="10805"/>
                  <a:pt x="10956" y="10828"/>
                  <a:pt x="10765" y="10939"/>
                </a:cubicBezTo>
                <a:cubicBezTo>
                  <a:pt x="10817" y="11017"/>
                  <a:pt x="11301" y="11354"/>
                  <a:pt x="11212" y="11485"/>
                </a:cubicBezTo>
                <a:cubicBezTo>
                  <a:pt x="11043" y="11557"/>
                  <a:pt x="10990" y="11582"/>
                  <a:pt x="10864" y="11559"/>
                </a:cubicBezTo>
                <a:cubicBezTo>
                  <a:pt x="10854" y="11278"/>
                  <a:pt x="10969" y="11187"/>
                  <a:pt x="11162" y="10964"/>
                </a:cubicBezTo>
                <a:cubicBezTo>
                  <a:pt x="11170" y="10956"/>
                  <a:pt x="11179" y="10947"/>
                  <a:pt x="11187" y="10939"/>
                </a:cubicBezTo>
              </a:path>
              <a:path w="4888" h="1862">
                <a:moveTo>
                  <a:pt x="11683" y="10691"/>
                </a:moveTo>
                <a:cubicBezTo>
                  <a:pt x="11683" y="10924"/>
                  <a:pt x="11701" y="11153"/>
                  <a:pt x="11708" y="11385"/>
                </a:cubicBezTo>
                <a:cubicBezTo>
                  <a:pt x="11708" y="11393"/>
                  <a:pt x="11708" y="11402"/>
                  <a:pt x="11708" y="11410"/>
                </a:cubicBezTo>
              </a:path>
              <a:path w="4888" h="1862">
                <a:moveTo>
                  <a:pt x="10592" y="11609"/>
                </a:moveTo>
                <a:cubicBezTo>
                  <a:pt x="10854" y="11787"/>
                  <a:pt x="11105" y="11850"/>
                  <a:pt x="11435" y="11807"/>
                </a:cubicBezTo>
                <a:cubicBezTo>
                  <a:pt x="11842" y="11754"/>
                  <a:pt x="12166" y="11555"/>
                  <a:pt x="12303" y="11162"/>
                </a:cubicBezTo>
                <a:cubicBezTo>
                  <a:pt x="12418" y="10833"/>
                  <a:pt x="12268" y="10482"/>
                  <a:pt x="12005" y="10269"/>
                </a:cubicBezTo>
                <a:cubicBezTo>
                  <a:pt x="11794" y="10098"/>
                  <a:pt x="11561" y="10110"/>
                  <a:pt x="11311" y="10145"/>
                </a:cubicBezTo>
                <a:cubicBezTo>
                  <a:pt x="11045" y="10182"/>
                  <a:pt x="10833" y="10341"/>
                  <a:pt x="10691" y="10567"/>
                </a:cubicBezTo>
                <a:cubicBezTo>
                  <a:pt x="10495" y="10879"/>
                  <a:pt x="10488" y="11216"/>
                  <a:pt x="10616" y="11559"/>
                </a:cubicBezTo>
                <a:cubicBezTo>
                  <a:pt x="10716" y="11826"/>
                  <a:pt x="10865" y="11937"/>
                  <a:pt x="11137" y="11981"/>
                </a:cubicBezTo>
                <a:cubicBezTo>
                  <a:pt x="11162" y="11981"/>
                  <a:pt x="11187" y="11981"/>
                  <a:pt x="11212" y="119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28960" y="5224320"/>
            <a:ext cx="615960" cy="339840"/>
          </a:xfrm>
          <a:custGeom>
            <a:avLst/>
            <a:gdLst/>
            <a:ahLst/>
            <a:rect l="l" t="t" r="r" b="b"/>
            <a:pathLst>
              <a:path w="1712" h="943">
                <a:moveTo>
                  <a:pt x="8285" y="14759"/>
                </a:moveTo>
                <a:cubicBezTo>
                  <a:pt x="8330" y="14669"/>
                  <a:pt x="8183" y="15015"/>
                  <a:pt x="8161" y="15056"/>
                </a:cubicBezTo>
                <a:cubicBezTo>
                  <a:pt x="8153" y="15073"/>
                  <a:pt x="8144" y="15089"/>
                  <a:pt x="8136" y="15106"/>
                </a:cubicBezTo>
                <a:cubicBezTo>
                  <a:pt x="8286" y="15039"/>
                  <a:pt x="8443" y="15040"/>
                  <a:pt x="8607" y="15056"/>
                </a:cubicBezTo>
              </a:path>
              <a:path w="1712" h="943">
                <a:moveTo>
                  <a:pt x="8582" y="14560"/>
                </a:moveTo>
                <a:cubicBezTo>
                  <a:pt x="8582" y="14858"/>
                  <a:pt x="8582" y="15155"/>
                  <a:pt x="8582" y="15453"/>
                </a:cubicBezTo>
              </a:path>
              <a:path w="1712" h="943">
                <a:moveTo>
                  <a:pt x="8905" y="14784"/>
                </a:moveTo>
                <a:cubicBezTo>
                  <a:pt x="9013" y="14924"/>
                  <a:pt x="9113" y="15070"/>
                  <a:pt x="9227" y="15205"/>
                </a:cubicBezTo>
              </a:path>
              <a:path w="1712" h="943">
                <a:moveTo>
                  <a:pt x="9178" y="14660"/>
                </a:moveTo>
                <a:cubicBezTo>
                  <a:pt x="9076" y="14844"/>
                  <a:pt x="8959" y="15049"/>
                  <a:pt x="8905" y="15255"/>
                </a:cubicBezTo>
                <a:cubicBezTo>
                  <a:pt x="8905" y="15271"/>
                  <a:pt x="8905" y="15288"/>
                  <a:pt x="8905" y="15304"/>
                </a:cubicBezTo>
              </a:path>
              <a:path w="1712" h="943">
                <a:moveTo>
                  <a:pt x="9500" y="14784"/>
                </a:moveTo>
                <a:cubicBezTo>
                  <a:pt x="9494" y="14862"/>
                  <a:pt x="9489" y="14890"/>
                  <a:pt x="9475" y="14957"/>
                </a:cubicBezTo>
                <a:cubicBezTo>
                  <a:pt x="9583" y="14917"/>
                  <a:pt x="9633" y="14908"/>
                  <a:pt x="9748" y="14908"/>
                </a:cubicBezTo>
              </a:path>
              <a:path w="1712" h="943">
                <a:moveTo>
                  <a:pt x="9748" y="14511"/>
                </a:moveTo>
                <a:cubicBezTo>
                  <a:pt x="9774" y="14733"/>
                  <a:pt x="9829" y="14954"/>
                  <a:pt x="9847" y="15180"/>
                </a:cubicBezTo>
                <a:cubicBezTo>
                  <a:pt x="9847" y="15213"/>
                  <a:pt x="9847" y="15247"/>
                  <a:pt x="9847" y="1528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97200" y="5170320"/>
            <a:ext cx="419040" cy="330480"/>
          </a:xfrm>
          <a:custGeom>
            <a:avLst/>
            <a:gdLst/>
            <a:ahLst/>
            <a:rect l="l" t="t" r="r" b="b"/>
            <a:pathLst>
              <a:path w="1167" h="919">
                <a:moveTo>
                  <a:pt x="10269" y="14709"/>
                </a:moveTo>
                <a:cubicBezTo>
                  <a:pt x="10408" y="14837"/>
                  <a:pt x="10504" y="14999"/>
                  <a:pt x="10616" y="15156"/>
                </a:cubicBezTo>
              </a:path>
              <a:path w="1167" h="919">
                <a:moveTo>
                  <a:pt x="10666" y="14734"/>
                </a:moveTo>
                <a:cubicBezTo>
                  <a:pt x="10592" y="14883"/>
                  <a:pt x="10517" y="15031"/>
                  <a:pt x="10443" y="15180"/>
                </a:cubicBezTo>
              </a:path>
              <a:path w="1167" h="919">
                <a:moveTo>
                  <a:pt x="11013" y="14734"/>
                </a:moveTo>
                <a:cubicBezTo>
                  <a:pt x="10955" y="14939"/>
                  <a:pt x="10934" y="14821"/>
                  <a:pt x="11088" y="14833"/>
                </a:cubicBezTo>
                <a:cubicBezTo>
                  <a:pt x="11213" y="14843"/>
                  <a:pt x="11306" y="14898"/>
                  <a:pt x="11410" y="14957"/>
                </a:cubicBezTo>
              </a:path>
              <a:path w="1167" h="919">
                <a:moveTo>
                  <a:pt x="11435" y="14362"/>
                </a:moveTo>
                <a:cubicBezTo>
                  <a:pt x="11435" y="14644"/>
                  <a:pt x="11416" y="14923"/>
                  <a:pt x="11410" y="15205"/>
                </a:cubicBezTo>
                <a:cubicBezTo>
                  <a:pt x="11410" y="15230"/>
                  <a:pt x="11410" y="15255"/>
                  <a:pt x="11410" y="1528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78080" y="5518080"/>
            <a:ext cx="1822680" cy="465120"/>
          </a:xfrm>
          <a:custGeom>
            <a:avLst/>
            <a:gdLst/>
            <a:ahLst/>
            <a:rect l="l" t="t" r="r" b="b"/>
            <a:pathLst>
              <a:path w="5062" h="1291">
                <a:moveTo>
                  <a:pt x="8855" y="15553"/>
                </a:moveTo>
                <a:cubicBezTo>
                  <a:pt x="8827" y="15645"/>
                  <a:pt x="8794" y="15740"/>
                  <a:pt x="8930" y="15751"/>
                </a:cubicBezTo>
                <a:cubicBezTo>
                  <a:pt x="9227" y="15775"/>
                  <a:pt x="9530" y="15667"/>
                  <a:pt x="9823" y="15627"/>
                </a:cubicBezTo>
                <a:cubicBezTo>
                  <a:pt x="9923" y="15613"/>
                  <a:pt x="9900" y="15560"/>
                  <a:pt x="9872" y="15453"/>
                </a:cubicBezTo>
                <a:cubicBezTo>
                  <a:pt x="9864" y="15437"/>
                  <a:pt x="9855" y="15420"/>
                  <a:pt x="9847" y="15404"/>
                </a:cubicBezTo>
              </a:path>
              <a:path w="5062" h="1291">
                <a:moveTo>
                  <a:pt x="9500" y="15999"/>
                </a:moveTo>
                <a:cubicBezTo>
                  <a:pt x="9429" y="15952"/>
                  <a:pt x="9427" y="16300"/>
                  <a:pt x="9426" y="16321"/>
                </a:cubicBezTo>
                <a:cubicBezTo>
                  <a:pt x="9426" y="16487"/>
                  <a:pt x="9426" y="16520"/>
                  <a:pt x="9426" y="16619"/>
                </a:cubicBezTo>
              </a:path>
              <a:path w="5062" h="1291">
                <a:moveTo>
                  <a:pt x="9823" y="15949"/>
                </a:moveTo>
                <a:cubicBezTo>
                  <a:pt x="9791" y="16088"/>
                  <a:pt x="9801" y="16207"/>
                  <a:pt x="9847" y="16346"/>
                </a:cubicBezTo>
                <a:cubicBezTo>
                  <a:pt x="9855" y="16363"/>
                  <a:pt x="9864" y="16379"/>
                  <a:pt x="9872" y="16396"/>
                </a:cubicBezTo>
                <a:cubicBezTo>
                  <a:pt x="10022" y="16410"/>
                  <a:pt x="10155" y="16337"/>
                  <a:pt x="10244" y="16197"/>
                </a:cubicBezTo>
                <a:cubicBezTo>
                  <a:pt x="10267" y="16130"/>
                  <a:pt x="10278" y="16112"/>
                  <a:pt x="10244" y="16073"/>
                </a:cubicBezTo>
                <a:cubicBezTo>
                  <a:pt x="10116" y="16127"/>
                  <a:pt x="10096" y="16165"/>
                  <a:pt x="10096" y="16321"/>
                </a:cubicBezTo>
              </a:path>
              <a:path w="5062" h="1291">
                <a:moveTo>
                  <a:pt x="10815" y="16297"/>
                </a:moveTo>
                <a:cubicBezTo>
                  <a:pt x="11038" y="16250"/>
                  <a:pt x="11261" y="16212"/>
                  <a:pt x="11485" y="16173"/>
                </a:cubicBezTo>
                <a:cubicBezTo>
                  <a:pt x="11593" y="16151"/>
                  <a:pt x="11619" y="16138"/>
                  <a:pt x="11683" y="16173"/>
                </a:cubicBezTo>
                <a:cubicBezTo>
                  <a:pt x="11672" y="16046"/>
                  <a:pt x="11622" y="15933"/>
                  <a:pt x="11633" y="15801"/>
                </a:cubicBezTo>
                <a:cubicBezTo>
                  <a:pt x="11652" y="15685"/>
                  <a:pt x="11661" y="15669"/>
                  <a:pt x="11658" y="15602"/>
                </a:cubicBezTo>
              </a:path>
              <a:path w="5062" h="1291">
                <a:moveTo>
                  <a:pt x="12700" y="15801"/>
                </a:moveTo>
                <a:cubicBezTo>
                  <a:pt x="12582" y="15934"/>
                  <a:pt x="12489" y="16065"/>
                  <a:pt x="12402" y="16222"/>
                </a:cubicBezTo>
                <a:cubicBezTo>
                  <a:pt x="12602" y="16293"/>
                  <a:pt x="12709" y="16215"/>
                  <a:pt x="12849" y="16049"/>
                </a:cubicBezTo>
                <a:cubicBezTo>
                  <a:pt x="12865" y="16024"/>
                  <a:pt x="12882" y="15999"/>
                  <a:pt x="12898" y="15974"/>
                </a:cubicBezTo>
                <a:cubicBezTo>
                  <a:pt x="12769" y="15964"/>
                  <a:pt x="12650" y="16002"/>
                  <a:pt x="12650" y="16173"/>
                </a:cubicBezTo>
                <a:cubicBezTo>
                  <a:pt x="12658" y="16181"/>
                  <a:pt x="12667" y="16189"/>
                  <a:pt x="12675" y="16197"/>
                </a:cubicBezTo>
              </a:path>
              <a:path w="5062" h="1291">
                <a:moveTo>
                  <a:pt x="13196" y="15701"/>
                </a:moveTo>
                <a:cubicBezTo>
                  <a:pt x="13155" y="15777"/>
                  <a:pt x="13129" y="15845"/>
                  <a:pt x="13097" y="15925"/>
                </a:cubicBezTo>
                <a:cubicBezTo>
                  <a:pt x="13208" y="15920"/>
                  <a:pt x="13310" y="15910"/>
                  <a:pt x="13419" y="15900"/>
                </a:cubicBezTo>
              </a:path>
              <a:path w="5062" h="1291">
                <a:moveTo>
                  <a:pt x="13469" y="15553"/>
                </a:moveTo>
                <a:cubicBezTo>
                  <a:pt x="13391" y="15724"/>
                  <a:pt x="13368" y="15931"/>
                  <a:pt x="13345" y="16123"/>
                </a:cubicBezTo>
                <a:cubicBezTo>
                  <a:pt x="13345" y="16173"/>
                  <a:pt x="13345" y="16189"/>
                  <a:pt x="13345" y="16222"/>
                </a:cubicBezTo>
              </a:path>
              <a:path w="5062" h="1291">
                <a:moveTo>
                  <a:pt x="12452" y="16545"/>
                </a:moveTo>
                <a:cubicBezTo>
                  <a:pt x="12603" y="16525"/>
                  <a:pt x="12746" y="16533"/>
                  <a:pt x="12898" y="16520"/>
                </a:cubicBezTo>
                <a:cubicBezTo>
                  <a:pt x="13130" y="16501"/>
                  <a:pt x="13370" y="16477"/>
                  <a:pt x="13568" y="16346"/>
                </a:cubicBezTo>
                <a:cubicBezTo>
                  <a:pt x="13699" y="16259"/>
                  <a:pt x="13837" y="16137"/>
                  <a:pt x="13866" y="15974"/>
                </a:cubicBezTo>
                <a:cubicBezTo>
                  <a:pt x="13877" y="15914"/>
                  <a:pt x="13901" y="15783"/>
                  <a:pt x="13891" y="15726"/>
                </a:cubicBezTo>
                <a:cubicBezTo>
                  <a:pt x="13872" y="15618"/>
                  <a:pt x="13858" y="15528"/>
                  <a:pt x="13767" y="15453"/>
                </a:cubicBezTo>
                <a:cubicBezTo>
                  <a:pt x="13665" y="15370"/>
                  <a:pt x="13447" y="15327"/>
                  <a:pt x="13320" y="15329"/>
                </a:cubicBezTo>
                <a:cubicBezTo>
                  <a:pt x="13126" y="15333"/>
                  <a:pt x="12924" y="15430"/>
                  <a:pt x="12750" y="15503"/>
                </a:cubicBezTo>
                <a:cubicBezTo>
                  <a:pt x="12599" y="15566"/>
                  <a:pt x="12502" y="15651"/>
                  <a:pt x="12378" y="15751"/>
                </a:cubicBezTo>
                <a:cubicBezTo>
                  <a:pt x="12280" y="15830"/>
                  <a:pt x="12181" y="15931"/>
                  <a:pt x="12105" y="16024"/>
                </a:cubicBezTo>
                <a:cubicBezTo>
                  <a:pt x="12021" y="16127"/>
                  <a:pt x="12021" y="16227"/>
                  <a:pt x="12055" y="16346"/>
                </a:cubicBezTo>
                <a:cubicBezTo>
                  <a:pt x="12086" y="16455"/>
                  <a:pt x="12175" y="16506"/>
                  <a:pt x="12278" y="16545"/>
                </a:cubicBezTo>
                <a:cubicBezTo>
                  <a:pt x="12402" y="16592"/>
                  <a:pt x="12545" y="16570"/>
                  <a:pt x="12675" y="16570"/>
                </a:cubicBezTo>
                <a:cubicBezTo>
                  <a:pt x="12725" y="16570"/>
                  <a:pt x="12774" y="16570"/>
                  <a:pt x="12824" y="165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identify and apply the order of operations when solving expressions with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BrainPop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 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685800" y="3705120"/>
            <a:ext cx="2459160" cy="3152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(paren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use (expon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(multi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 (divi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nt (add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ly (subtr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2852640" cy="36576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93640" y="41760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identify and apply the order of operations when solving expressions with expo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identify and apply the order of operations when solving expressions with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er: Evaluate these expressions using the order of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+ 6 x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5 – 9) x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 5 x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2 + 15 ÷ 3 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81800" y="3625920"/>
            <a:ext cx="1035000" cy="830160"/>
          </a:xfrm>
          <a:custGeom>
            <a:avLst/>
            <a:gdLst/>
            <a:ahLst/>
            <a:rect l="l" t="t" r="r" b="b"/>
            <a:pathLst>
              <a:path w="2878" h="2308">
                <a:moveTo>
                  <a:pt x="15503" y="10220"/>
                </a:moveTo>
                <a:cubicBezTo>
                  <a:pt x="15555" y="10168"/>
                  <a:pt x="15574" y="10151"/>
                  <a:pt x="15627" y="10145"/>
                </a:cubicBezTo>
                <a:cubicBezTo>
                  <a:pt x="15646" y="10241"/>
                  <a:pt x="15689" y="10336"/>
                  <a:pt x="15577" y="10393"/>
                </a:cubicBezTo>
                <a:cubicBezTo>
                  <a:pt x="15569" y="10393"/>
                  <a:pt x="15561" y="10393"/>
                  <a:pt x="15553" y="10393"/>
                </a:cubicBezTo>
                <a:cubicBezTo>
                  <a:pt x="15721" y="10427"/>
                  <a:pt x="15943" y="10353"/>
                  <a:pt x="16123" y="10344"/>
                </a:cubicBezTo>
                <a:cubicBezTo>
                  <a:pt x="16323" y="10334"/>
                  <a:pt x="16518" y="10368"/>
                  <a:pt x="16718" y="10368"/>
                </a:cubicBezTo>
                <a:cubicBezTo>
                  <a:pt x="16781" y="10368"/>
                  <a:pt x="16855" y="10436"/>
                  <a:pt x="16892" y="10344"/>
                </a:cubicBezTo>
                <a:cubicBezTo>
                  <a:pt x="16916" y="10203"/>
                  <a:pt x="16922" y="10161"/>
                  <a:pt x="16942" y="10071"/>
                </a:cubicBezTo>
              </a:path>
              <a:path w="2878" h="2308">
                <a:moveTo>
                  <a:pt x="16247" y="10592"/>
                </a:moveTo>
                <a:cubicBezTo>
                  <a:pt x="16221" y="10708"/>
                  <a:pt x="16155" y="10785"/>
                  <a:pt x="16148" y="10914"/>
                </a:cubicBezTo>
                <a:cubicBezTo>
                  <a:pt x="16139" y="11082"/>
                  <a:pt x="16175" y="11142"/>
                  <a:pt x="16346" y="11162"/>
                </a:cubicBezTo>
                <a:cubicBezTo>
                  <a:pt x="16443" y="11173"/>
                  <a:pt x="16574" y="11138"/>
                  <a:pt x="16644" y="11063"/>
                </a:cubicBezTo>
                <a:cubicBezTo>
                  <a:pt x="16715" y="10987"/>
                  <a:pt x="16618" y="10848"/>
                  <a:pt x="16520" y="10889"/>
                </a:cubicBezTo>
                <a:cubicBezTo>
                  <a:pt x="16456" y="10916"/>
                  <a:pt x="16452" y="11034"/>
                  <a:pt x="16446" y="11088"/>
                </a:cubicBezTo>
              </a:path>
              <a:path w="2878" h="2308">
                <a:moveTo>
                  <a:pt x="17165" y="10691"/>
                </a:moveTo>
                <a:cubicBezTo>
                  <a:pt x="17243" y="10803"/>
                  <a:pt x="17321" y="10912"/>
                  <a:pt x="17413" y="11013"/>
                </a:cubicBezTo>
              </a:path>
              <a:path w="2878" h="2308">
                <a:moveTo>
                  <a:pt x="17413" y="10666"/>
                </a:moveTo>
                <a:cubicBezTo>
                  <a:pt x="17312" y="10790"/>
                  <a:pt x="17264" y="10924"/>
                  <a:pt x="17190" y="11063"/>
                </a:cubicBezTo>
              </a:path>
              <a:path w="2878" h="2308">
                <a:moveTo>
                  <a:pt x="17711" y="10616"/>
                </a:moveTo>
                <a:cubicBezTo>
                  <a:pt x="17719" y="10666"/>
                  <a:pt x="17680" y="10840"/>
                  <a:pt x="17760" y="10840"/>
                </a:cubicBezTo>
                <a:cubicBezTo>
                  <a:pt x="17864" y="10840"/>
                  <a:pt x="17975" y="10815"/>
                  <a:pt x="18083" y="10815"/>
                </a:cubicBezTo>
              </a:path>
              <a:path w="2878" h="2308">
                <a:moveTo>
                  <a:pt x="18058" y="10443"/>
                </a:moveTo>
                <a:cubicBezTo>
                  <a:pt x="18058" y="10623"/>
                  <a:pt x="18060" y="10810"/>
                  <a:pt x="18083" y="10988"/>
                </a:cubicBezTo>
                <a:cubicBezTo>
                  <a:pt x="18101" y="11062"/>
                  <a:pt x="18109" y="11069"/>
                  <a:pt x="18107" y="11112"/>
                </a:cubicBezTo>
              </a:path>
              <a:path w="2878" h="2308">
                <a:moveTo>
                  <a:pt x="16644" y="11286"/>
                </a:moveTo>
                <a:cubicBezTo>
                  <a:pt x="16685" y="11384"/>
                  <a:pt x="16709" y="11452"/>
                  <a:pt x="16718" y="11559"/>
                </a:cubicBezTo>
                <a:cubicBezTo>
                  <a:pt x="16928" y="11522"/>
                  <a:pt x="17129" y="11485"/>
                  <a:pt x="17338" y="11460"/>
                </a:cubicBezTo>
                <a:cubicBezTo>
                  <a:pt x="17494" y="11441"/>
                  <a:pt x="17609" y="11433"/>
                  <a:pt x="17760" y="11460"/>
                </a:cubicBezTo>
                <a:cubicBezTo>
                  <a:pt x="17768" y="11460"/>
                  <a:pt x="17777" y="11460"/>
                  <a:pt x="17785" y="11460"/>
                </a:cubicBezTo>
                <a:cubicBezTo>
                  <a:pt x="17785" y="11336"/>
                  <a:pt x="17785" y="11212"/>
                  <a:pt x="17785" y="11088"/>
                </a:cubicBezTo>
              </a:path>
              <a:path w="2878" h="2308">
                <a:moveTo>
                  <a:pt x="17041" y="11683"/>
                </a:moveTo>
                <a:cubicBezTo>
                  <a:pt x="17033" y="11708"/>
                  <a:pt x="17024" y="11732"/>
                  <a:pt x="17016" y="11757"/>
                </a:cubicBezTo>
                <a:cubicBezTo>
                  <a:pt x="17035" y="11816"/>
                  <a:pt x="17259" y="11612"/>
                  <a:pt x="17264" y="11906"/>
                </a:cubicBezTo>
                <a:cubicBezTo>
                  <a:pt x="17268" y="12150"/>
                  <a:pt x="17091" y="12217"/>
                  <a:pt x="16917" y="12154"/>
                </a:cubicBezTo>
                <a:cubicBezTo>
                  <a:pt x="16947" y="12033"/>
                  <a:pt x="17040" y="12006"/>
                  <a:pt x="17165" y="12055"/>
                </a:cubicBezTo>
                <a:cubicBezTo>
                  <a:pt x="17230" y="12099"/>
                  <a:pt x="17244" y="12110"/>
                  <a:pt x="17289" y="12129"/>
                </a:cubicBezTo>
              </a:path>
              <a:path w="2878" h="2308">
                <a:moveTo>
                  <a:pt x="17438" y="11757"/>
                </a:moveTo>
                <a:cubicBezTo>
                  <a:pt x="17438" y="11815"/>
                  <a:pt x="17438" y="11824"/>
                  <a:pt x="17438" y="11857"/>
                </a:cubicBezTo>
                <a:cubicBezTo>
                  <a:pt x="17602" y="11871"/>
                  <a:pt x="17642" y="11879"/>
                  <a:pt x="17785" y="11807"/>
                </a:cubicBezTo>
              </a:path>
              <a:path w="2878" h="2308">
                <a:moveTo>
                  <a:pt x="17711" y="11534"/>
                </a:moveTo>
                <a:cubicBezTo>
                  <a:pt x="17718" y="11686"/>
                  <a:pt x="17743" y="11830"/>
                  <a:pt x="17760" y="11981"/>
                </a:cubicBezTo>
              </a:path>
              <a:path w="2878" h="2308">
                <a:moveTo>
                  <a:pt x="16570" y="12278"/>
                </a:moveTo>
                <a:cubicBezTo>
                  <a:pt x="16861" y="12337"/>
                  <a:pt x="17141" y="12364"/>
                  <a:pt x="17438" y="12328"/>
                </a:cubicBezTo>
                <a:cubicBezTo>
                  <a:pt x="17687" y="12298"/>
                  <a:pt x="18124" y="12231"/>
                  <a:pt x="18306" y="12030"/>
                </a:cubicBezTo>
                <a:cubicBezTo>
                  <a:pt x="18463" y="11857"/>
                  <a:pt x="18381" y="11581"/>
                  <a:pt x="18207" y="11460"/>
                </a:cubicBezTo>
                <a:cubicBezTo>
                  <a:pt x="17954" y="11285"/>
                  <a:pt x="17592" y="11316"/>
                  <a:pt x="17314" y="11385"/>
                </a:cubicBezTo>
                <a:cubicBezTo>
                  <a:pt x="16982" y="11467"/>
                  <a:pt x="16670" y="11682"/>
                  <a:pt x="16570" y="12030"/>
                </a:cubicBezTo>
                <a:cubicBezTo>
                  <a:pt x="16491" y="12302"/>
                  <a:pt x="16635" y="12317"/>
                  <a:pt x="16818" y="123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63800" y="3705120"/>
            <a:ext cx="608040" cy="135000"/>
          </a:xfrm>
          <a:custGeom>
            <a:avLst/>
            <a:gdLst/>
            <a:ahLst/>
            <a:rect l="l" t="t" r="r" b="b"/>
            <a:pathLst>
              <a:path w="1688" h="373">
                <a:moveTo>
                  <a:pt x="5457" y="10294"/>
                </a:moveTo>
                <a:cubicBezTo>
                  <a:pt x="5497" y="10360"/>
                  <a:pt x="5498" y="10486"/>
                  <a:pt x="5482" y="10567"/>
                </a:cubicBezTo>
                <a:cubicBezTo>
                  <a:pt x="5457" y="10616"/>
                  <a:pt x="5449" y="10633"/>
                  <a:pt x="5482" y="10666"/>
                </a:cubicBezTo>
                <a:cubicBezTo>
                  <a:pt x="5691" y="10605"/>
                  <a:pt x="5885" y="10550"/>
                  <a:pt x="6102" y="10517"/>
                </a:cubicBezTo>
                <a:cubicBezTo>
                  <a:pt x="6271" y="10492"/>
                  <a:pt x="6410" y="10507"/>
                  <a:pt x="6573" y="10542"/>
                </a:cubicBezTo>
                <a:cubicBezTo>
                  <a:pt x="6682" y="10565"/>
                  <a:pt x="6835" y="10598"/>
                  <a:pt x="6945" y="10592"/>
                </a:cubicBezTo>
                <a:cubicBezTo>
                  <a:pt x="7015" y="10588"/>
                  <a:pt x="7085" y="10629"/>
                  <a:pt x="7144" y="10592"/>
                </a:cubicBezTo>
                <a:cubicBezTo>
                  <a:pt x="7165" y="10579"/>
                  <a:pt x="7144" y="10400"/>
                  <a:pt x="7144" y="103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14720" y="3902040"/>
            <a:ext cx="9360" cy="179280"/>
          </a:xfrm>
          <a:custGeom>
            <a:avLst/>
            <a:gdLst/>
            <a:ahLst/>
            <a:rect l="l" t="t" r="r" b="b"/>
            <a:pathLst>
              <a:path w="25" h="497">
                <a:moveTo>
                  <a:pt x="6152" y="10840"/>
                </a:moveTo>
                <a:cubicBezTo>
                  <a:pt x="6165" y="10998"/>
                  <a:pt x="6176" y="11151"/>
                  <a:pt x="6176" y="11311"/>
                </a:cubicBezTo>
                <a:cubicBezTo>
                  <a:pt x="6176" y="11319"/>
                  <a:pt x="6176" y="11328"/>
                  <a:pt x="6176" y="113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3875040"/>
            <a:ext cx="177840" cy="223920"/>
          </a:xfrm>
          <a:custGeom>
            <a:avLst/>
            <a:gdLst/>
            <a:ahLst/>
            <a:rect l="l" t="t" r="r" b="b"/>
            <a:pathLst>
              <a:path w="497" h="621">
                <a:moveTo>
                  <a:pt x="6548" y="10889"/>
                </a:moveTo>
                <a:cubicBezTo>
                  <a:pt x="6600" y="10806"/>
                  <a:pt x="6682" y="10778"/>
                  <a:pt x="6796" y="10765"/>
                </a:cubicBezTo>
                <a:cubicBezTo>
                  <a:pt x="6817" y="10918"/>
                  <a:pt x="6782" y="10978"/>
                  <a:pt x="6697" y="11112"/>
                </a:cubicBezTo>
                <a:cubicBezTo>
                  <a:pt x="6635" y="11210"/>
                  <a:pt x="6556" y="11283"/>
                  <a:pt x="6499" y="11385"/>
                </a:cubicBezTo>
                <a:cubicBezTo>
                  <a:pt x="6570" y="11272"/>
                  <a:pt x="6565" y="11261"/>
                  <a:pt x="6697" y="11261"/>
                </a:cubicBezTo>
                <a:cubicBezTo>
                  <a:pt x="6766" y="11261"/>
                  <a:pt x="6876" y="11270"/>
                  <a:pt x="6945" y="11286"/>
                </a:cubicBezTo>
                <a:cubicBezTo>
                  <a:pt x="6962" y="11294"/>
                  <a:pt x="6978" y="11303"/>
                  <a:pt x="6995" y="113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44760" y="3946680"/>
            <a:ext cx="169920" cy="196560"/>
          </a:xfrm>
          <a:custGeom>
            <a:avLst/>
            <a:gdLst/>
            <a:ahLst/>
            <a:rect l="l" t="t" r="r" b="b"/>
            <a:pathLst>
              <a:path w="472" h="546">
                <a:moveTo>
                  <a:pt x="4738" y="11088"/>
                </a:moveTo>
                <a:cubicBezTo>
                  <a:pt x="4636" y="10986"/>
                  <a:pt x="4594" y="10939"/>
                  <a:pt x="4440" y="10964"/>
                </a:cubicBezTo>
                <a:cubicBezTo>
                  <a:pt x="4277" y="10990"/>
                  <a:pt x="4297" y="11165"/>
                  <a:pt x="4341" y="11261"/>
                </a:cubicBezTo>
                <a:cubicBezTo>
                  <a:pt x="4455" y="11268"/>
                  <a:pt x="4621" y="11270"/>
                  <a:pt x="4688" y="11137"/>
                </a:cubicBezTo>
                <a:cubicBezTo>
                  <a:pt x="4696" y="11104"/>
                  <a:pt x="4705" y="11071"/>
                  <a:pt x="4713" y="11038"/>
                </a:cubicBezTo>
                <a:cubicBezTo>
                  <a:pt x="4735" y="11195"/>
                  <a:pt x="4748" y="11351"/>
                  <a:pt x="4762" y="1150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19160" y="3929040"/>
            <a:ext cx="9720" cy="142920"/>
          </a:xfrm>
          <a:custGeom>
            <a:avLst/>
            <a:gdLst/>
            <a:ahLst/>
            <a:rect l="l" t="t" r="r" b="b"/>
            <a:pathLst>
              <a:path w="26" h="398">
                <a:moveTo>
                  <a:pt x="5333" y="10914"/>
                </a:moveTo>
                <a:cubicBezTo>
                  <a:pt x="5333" y="11050"/>
                  <a:pt x="5348" y="11177"/>
                  <a:pt x="5358" y="113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66960" y="3973680"/>
            <a:ext cx="133200" cy="27000"/>
          </a:xfrm>
          <a:custGeom>
            <a:avLst/>
            <a:gdLst/>
            <a:ahLst/>
            <a:rect l="l" t="t" r="r" b="b"/>
            <a:pathLst>
              <a:path w="373" h="75">
                <a:moveTo>
                  <a:pt x="5184" y="11112"/>
                </a:moveTo>
                <a:cubicBezTo>
                  <a:pt x="5294" y="11073"/>
                  <a:pt x="5400" y="11090"/>
                  <a:pt x="5507" y="11063"/>
                </a:cubicBezTo>
                <a:cubicBezTo>
                  <a:pt x="5523" y="11055"/>
                  <a:pt x="5540" y="11046"/>
                  <a:pt x="5556" y="1103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39960" y="4152960"/>
            <a:ext cx="473040" cy="142920"/>
          </a:xfrm>
          <a:custGeom>
            <a:avLst/>
            <a:gdLst/>
            <a:ahLst/>
            <a:rect l="l" t="t" r="r" b="b"/>
            <a:pathLst>
              <a:path w="1315" h="398">
                <a:moveTo>
                  <a:pt x="5110" y="11658"/>
                </a:moveTo>
                <a:cubicBezTo>
                  <a:pt x="5171" y="11738"/>
                  <a:pt x="5141" y="11845"/>
                  <a:pt x="5184" y="11906"/>
                </a:cubicBezTo>
                <a:cubicBezTo>
                  <a:pt x="5269" y="12027"/>
                  <a:pt x="5836" y="11803"/>
                  <a:pt x="5953" y="11782"/>
                </a:cubicBezTo>
                <a:cubicBezTo>
                  <a:pt x="5985" y="11776"/>
                  <a:pt x="6256" y="11788"/>
                  <a:pt x="6300" y="11757"/>
                </a:cubicBezTo>
                <a:cubicBezTo>
                  <a:pt x="6367" y="11710"/>
                  <a:pt x="6380" y="11594"/>
                  <a:pt x="6424" y="1153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55880" y="4357800"/>
            <a:ext cx="152280" cy="13500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5581" y="12154"/>
                </a:moveTo>
                <a:cubicBezTo>
                  <a:pt x="5633" y="12103"/>
                  <a:pt x="5652" y="12088"/>
                  <a:pt x="5705" y="12129"/>
                </a:cubicBezTo>
                <a:cubicBezTo>
                  <a:pt x="5717" y="12227"/>
                  <a:pt x="5690" y="12577"/>
                  <a:pt x="5482" y="12477"/>
                </a:cubicBezTo>
                <a:cubicBezTo>
                  <a:pt x="5465" y="12444"/>
                  <a:pt x="5449" y="12411"/>
                  <a:pt x="5432" y="12378"/>
                </a:cubicBezTo>
                <a:cubicBezTo>
                  <a:pt x="5564" y="12330"/>
                  <a:pt x="5670" y="12315"/>
                  <a:pt x="5804" y="12378"/>
                </a:cubicBezTo>
                <a:cubicBezTo>
                  <a:pt x="5840" y="12412"/>
                  <a:pt x="5853" y="12434"/>
                  <a:pt x="5854" y="124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7080" y="4348080"/>
            <a:ext cx="9720" cy="117720"/>
          </a:xfrm>
          <a:custGeom>
            <a:avLst/>
            <a:gdLst/>
            <a:ahLst/>
            <a:rect l="l" t="t" r="r" b="b"/>
            <a:pathLst>
              <a:path w="26" h="323">
                <a:moveTo>
                  <a:pt x="6102" y="12080"/>
                </a:moveTo>
                <a:cubicBezTo>
                  <a:pt x="6114" y="12190"/>
                  <a:pt x="6127" y="12291"/>
                  <a:pt x="6127" y="1240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20880" y="4313160"/>
            <a:ext cx="600120" cy="285840"/>
          </a:xfrm>
          <a:custGeom>
            <a:avLst/>
            <a:gdLst/>
            <a:ahLst/>
            <a:rect l="l" t="t" r="r" b="b"/>
            <a:pathLst>
              <a:path w="1663" h="794">
                <a:moveTo>
                  <a:pt x="5259" y="12626"/>
                </a:moveTo>
                <a:cubicBezTo>
                  <a:pt x="5373" y="12785"/>
                  <a:pt x="5550" y="12785"/>
                  <a:pt x="5755" y="12774"/>
                </a:cubicBezTo>
                <a:cubicBezTo>
                  <a:pt x="5986" y="12761"/>
                  <a:pt x="6256" y="12734"/>
                  <a:pt x="6474" y="12650"/>
                </a:cubicBezTo>
                <a:cubicBezTo>
                  <a:pt x="6672" y="12574"/>
                  <a:pt x="6769" y="12433"/>
                  <a:pt x="6697" y="12229"/>
                </a:cubicBezTo>
                <a:cubicBezTo>
                  <a:pt x="6665" y="12138"/>
                  <a:pt x="6509" y="12062"/>
                  <a:pt x="6424" y="12030"/>
                </a:cubicBezTo>
                <a:cubicBezTo>
                  <a:pt x="6308" y="11987"/>
                  <a:pt x="6148" y="11991"/>
                  <a:pt x="6028" y="11981"/>
                </a:cubicBezTo>
                <a:cubicBezTo>
                  <a:pt x="5903" y="11970"/>
                  <a:pt x="5775" y="11979"/>
                  <a:pt x="5655" y="12005"/>
                </a:cubicBezTo>
                <a:cubicBezTo>
                  <a:pt x="5543" y="12029"/>
                  <a:pt x="5401" y="12060"/>
                  <a:pt x="5308" y="12129"/>
                </a:cubicBezTo>
                <a:cubicBezTo>
                  <a:pt x="5222" y="12193"/>
                  <a:pt x="5146" y="12265"/>
                  <a:pt x="5085" y="12353"/>
                </a:cubicBezTo>
                <a:cubicBezTo>
                  <a:pt x="5027" y="12437"/>
                  <a:pt x="5042" y="12602"/>
                  <a:pt x="5110" y="12675"/>
                </a:cubicBezTo>
                <a:cubicBezTo>
                  <a:pt x="5188" y="12759"/>
                  <a:pt x="5220" y="12742"/>
                  <a:pt x="5308" y="1277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54120" y="4973760"/>
            <a:ext cx="1214640" cy="884160"/>
          </a:xfrm>
          <a:custGeom>
            <a:avLst/>
            <a:gdLst/>
            <a:ahLst/>
            <a:rect l="l" t="t" r="r" b="b"/>
            <a:pathLst>
              <a:path w="3374" h="2457">
                <a:moveTo>
                  <a:pt x="4316" y="14089"/>
                </a:moveTo>
                <a:cubicBezTo>
                  <a:pt x="4374" y="14136"/>
                  <a:pt x="4387" y="14196"/>
                  <a:pt x="4440" y="14238"/>
                </a:cubicBezTo>
                <a:cubicBezTo>
                  <a:pt x="4567" y="14338"/>
                  <a:pt x="4982" y="14136"/>
                  <a:pt x="5110" y="14114"/>
                </a:cubicBezTo>
                <a:cubicBezTo>
                  <a:pt x="5286" y="14083"/>
                  <a:pt x="5417" y="14085"/>
                  <a:pt x="5581" y="14114"/>
                </a:cubicBezTo>
                <a:cubicBezTo>
                  <a:pt x="5581" y="14009"/>
                  <a:pt x="5588" y="13919"/>
                  <a:pt x="5606" y="13816"/>
                </a:cubicBezTo>
              </a:path>
              <a:path w="3374" h="2457">
                <a:moveTo>
                  <a:pt x="5432" y="14312"/>
                </a:moveTo>
                <a:cubicBezTo>
                  <a:pt x="5378" y="14316"/>
                  <a:pt x="5193" y="14318"/>
                  <a:pt x="5159" y="14362"/>
                </a:cubicBezTo>
                <a:cubicBezTo>
                  <a:pt x="5101" y="14438"/>
                  <a:pt x="5036" y="14553"/>
                  <a:pt x="5085" y="14635"/>
                </a:cubicBezTo>
                <a:cubicBezTo>
                  <a:pt x="5201" y="14583"/>
                  <a:pt x="5452" y="14438"/>
                  <a:pt x="5531" y="14635"/>
                </a:cubicBezTo>
                <a:cubicBezTo>
                  <a:pt x="5626" y="14875"/>
                  <a:pt x="5322" y="14932"/>
                  <a:pt x="5184" y="14932"/>
                </a:cubicBezTo>
              </a:path>
              <a:path w="3374" h="2457">
                <a:moveTo>
                  <a:pt x="5804" y="14412"/>
                </a:moveTo>
                <a:cubicBezTo>
                  <a:pt x="5996" y="14482"/>
                  <a:pt x="6145" y="14575"/>
                  <a:pt x="6300" y="14709"/>
                </a:cubicBezTo>
              </a:path>
              <a:path w="3374" h="2457">
                <a:moveTo>
                  <a:pt x="6127" y="14238"/>
                </a:moveTo>
                <a:cubicBezTo>
                  <a:pt x="6074" y="14436"/>
                  <a:pt x="6020" y="14629"/>
                  <a:pt x="6003" y="14833"/>
                </a:cubicBezTo>
              </a:path>
              <a:path w="3374" h="2457">
                <a:moveTo>
                  <a:pt x="6548" y="14312"/>
                </a:moveTo>
                <a:cubicBezTo>
                  <a:pt x="6642" y="14286"/>
                  <a:pt x="6705" y="14271"/>
                  <a:pt x="6796" y="14288"/>
                </a:cubicBezTo>
                <a:cubicBezTo>
                  <a:pt x="6776" y="14447"/>
                  <a:pt x="6777" y="14443"/>
                  <a:pt x="6648" y="14536"/>
                </a:cubicBezTo>
                <a:cubicBezTo>
                  <a:pt x="6697" y="14466"/>
                  <a:pt x="6925" y="14373"/>
                  <a:pt x="6970" y="14560"/>
                </a:cubicBezTo>
                <a:cubicBezTo>
                  <a:pt x="7017" y="14754"/>
                  <a:pt x="6802" y="14815"/>
                  <a:pt x="6672" y="14833"/>
                </a:cubicBezTo>
              </a:path>
              <a:path w="3374" h="2457">
                <a:moveTo>
                  <a:pt x="5655" y="15032"/>
                </a:moveTo>
                <a:cubicBezTo>
                  <a:pt x="5694" y="15149"/>
                  <a:pt x="5733" y="15265"/>
                  <a:pt x="5779" y="15379"/>
                </a:cubicBezTo>
                <a:cubicBezTo>
                  <a:pt x="6091" y="15291"/>
                  <a:pt x="6402" y="15177"/>
                  <a:pt x="6722" y="15131"/>
                </a:cubicBezTo>
                <a:cubicBezTo>
                  <a:pt x="6873" y="15109"/>
                  <a:pt x="6821" y="15001"/>
                  <a:pt x="6821" y="14858"/>
                </a:cubicBezTo>
              </a:path>
              <a:path w="3374" h="2457">
                <a:moveTo>
                  <a:pt x="6226" y="15726"/>
                </a:moveTo>
                <a:cubicBezTo>
                  <a:pt x="6234" y="15861"/>
                  <a:pt x="6263" y="15990"/>
                  <a:pt x="6276" y="16123"/>
                </a:cubicBezTo>
              </a:path>
              <a:path w="3374" h="2457">
                <a:moveTo>
                  <a:pt x="6970" y="15429"/>
                </a:moveTo>
                <a:cubicBezTo>
                  <a:pt x="6873" y="15481"/>
                  <a:pt x="6766" y="15487"/>
                  <a:pt x="6672" y="15528"/>
                </a:cubicBezTo>
                <a:cubicBezTo>
                  <a:pt x="6606" y="15557"/>
                  <a:pt x="6576" y="15712"/>
                  <a:pt x="6548" y="15776"/>
                </a:cubicBezTo>
                <a:cubicBezTo>
                  <a:pt x="6658" y="15730"/>
                  <a:pt x="6766" y="15642"/>
                  <a:pt x="6896" y="15677"/>
                </a:cubicBezTo>
                <a:cubicBezTo>
                  <a:pt x="7003" y="15706"/>
                  <a:pt x="7039" y="15841"/>
                  <a:pt x="6970" y="15925"/>
                </a:cubicBezTo>
                <a:cubicBezTo>
                  <a:pt x="6889" y="16024"/>
                  <a:pt x="6785" y="16016"/>
                  <a:pt x="6672" y="16024"/>
                </a:cubicBezTo>
              </a:path>
              <a:path w="3374" h="2457">
                <a:moveTo>
                  <a:pt x="6003" y="16222"/>
                </a:moveTo>
                <a:cubicBezTo>
                  <a:pt x="6221" y="16242"/>
                  <a:pt x="6399" y="16280"/>
                  <a:pt x="6623" y="16247"/>
                </a:cubicBezTo>
                <a:cubicBezTo>
                  <a:pt x="6888" y="16208"/>
                  <a:pt x="7182" y="16104"/>
                  <a:pt x="7417" y="15974"/>
                </a:cubicBezTo>
                <a:cubicBezTo>
                  <a:pt x="7575" y="15887"/>
                  <a:pt x="7722" y="15793"/>
                  <a:pt x="7665" y="15602"/>
                </a:cubicBezTo>
                <a:cubicBezTo>
                  <a:pt x="7617" y="15443"/>
                  <a:pt x="7533" y="15344"/>
                  <a:pt x="7367" y="15304"/>
                </a:cubicBezTo>
                <a:cubicBezTo>
                  <a:pt x="7163" y="15254"/>
                  <a:pt x="6924" y="15279"/>
                  <a:pt x="6722" y="15329"/>
                </a:cubicBezTo>
                <a:cubicBezTo>
                  <a:pt x="6518" y="15379"/>
                  <a:pt x="6316" y="15463"/>
                  <a:pt x="6127" y="15553"/>
                </a:cubicBezTo>
                <a:cubicBezTo>
                  <a:pt x="6017" y="15605"/>
                  <a:pt x="5898" y="15673"/>
                  <a:pt x="5804" y="15751"/>
                </a:cubicBezTo>
                <a:cubicBezTo>
                  <a:pt x="5714" y="15825"/>
                  <a:pt x="5711" y="15946"/>
                  <a:pt x="5755" y="16049"/>
                </a:cubicBezTo>
                <a:cubicBezTo>
                  <a:pt x="5827" y="16216"/>
                  <a:pt x="5987" y="16256"/>
                  <a:pt x="6152" y="16247"/>
                </a:cubicBezTo>
                <a:cubicBezTo>
                  <a:pt x="6305" y="16239"/>
                  <a:pt x="6451" y="16187"/>
                  <a:pt x="6598" y="1614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86280" y="4848120"/>
            <a:ext cx="1635120" cy="573120"/>
          </a:xfrm>
          <a:custGeom>
            <a:avLst/>
            <a:gdLst/>
            <a:ahLst/>
            <a:rect l="l" t="t" r="r" b="b"/>
            <a:pathLst>
              <a:path w="4541" h="1588">
                <a:moveTo>
                  <a:pt x="17810" y="13618"/>
                </a:moveTo>
                <a:cubicBezTo>
                  <a:pt x="17810" y="13701"/>
                  <a:pt x="17810" y="13783"/>
                  <a:pt x="17810" y="13866"/>
                </a:cubicBezTo>
                <a:cubicBezTo>
                  <a:pt x="17934" y="13891"/>
                  <a:pt x="18074" y="13839"/>
                  <a:pt x="18207" y="13816"/>
                </a:cubicBezTo>
                <a:cubicBezTo>
                  <a:pt x="18372" y="13787"/>
                  <a:pt x="18560" y="13772"/>
                  <a:pt x="18728" y="13791"/>
                </a:cubicBezTo>
                <a:cubicBezTo>
                  <a:pt x="18847" y="13805"/>
                  <a:pt x="18955" y="13816"/>
                  <a:pt x="19075" y="13816"/>
                </a:cubicBezTo>
                <a:cubicBezTo>
                  <a:pt x="19157" y="13816"/>
                  <a:pt x="19201" y="13830"/>
                  <a:pt x="19273" y="13841"/>
                </a:cubicBezTo>
                <a:cubicBezTo>
                  <a:pt x="19337" y="13778"/>
                  <a:pt x="19332" y="13659"/>
                  <a:pt x="19323" y="13543"/>
                </a:cubicBezTo>
                <a:cubicBezTo>
                  <a:pt x="19323" y="13510"/>
                  <a:pt x="19323" y="13494"/>
                  <a:pt x="19323" y="13469"/>
                </a:cubicBezTo>
              </a:path>
              <a:path w="4541" h="1588">
                <a:moveTo>
                  <a:pt x="18728" y="14188"/>
                </a:moveTo>
                <a:cubicBezTo>
                  <a:pt x="18569" y="14208"/>
                  <a:pt x="18418" y="14233"/>
                  <a:pt x="18256" y="14238"/>
                </a:cubicBezTo>
                <a:cubicBezTo>
                  <a:pt x="18201" y="14240"/>
                  <a:pt x="18254" y="14530"/>
                  <a:pt x="18256" y="14585"/>
                </a:cubicBezTo>
                <a:cubicBezTo>
                  <a:pt x="18256" y="14602"/>
                  <a:pt x="18256" y="14618"/>
                  <a:pt x="18256" y="14635"/>
                </a:cubicBezTo>
                <a:cubicBezTo>
                  <a:pt x="18365" y="14570"/>
                  <a:pt x="18490" y="14433"/>
                  <a:pt x="18628" y="14511"/>
                </a:cubicBezTo>
                <a:cubicBezTo>
                  <a:pt x="18779" y="14596"/>
                  <a:pt x="18770" y="14859"/>
                  <a:pt x="18604" y="14932"/>
                </a:cubicBezTo>
                <a:cubicBezTo>
                  <a:pt x="18467" y="14992"/>
                  <a:pt x="18295" y="14954"/>
                  <a:pt x="18157" y="14932"/>
                </a:cubicBezTo>
              </a:path>
              <a:path w="4541" h="1588">
                <a:moveTo>
                  <a:pt x="17338" y="14412"/>
                </a:moveTo>
                <a:cubicBezTo>
                  <a:pt x="17358" y="14593"/>
                  <a:pt x="17358" y="14728"/>
                  <a:pt x="17338" y="14908"/>
                </a:cubicBezTo>
              </a:path>
              <a:path w="4541" h="1588">
                <a:moveTo>
                  <a:pt x="17115" y="14709"/>
                </a:moveTo>
                <a:cubicBezTo>
                  <a:pt x="17286" y="14663"/>
                  <a:pt x="17448" y="14609"/>
                  <a:pt x="17636" y="14585"/>
                </a:cubicBezTo>
                <a:cubicBezTo>
                  <a:pt x="17644" y="14585"/>
                  <a:pt x="17653" y="14585"/>
                  <a:pt x="17661" y="14585"/>
                </a:cubicBezTo>
              </a:path>
              <a:path w="4541" h="1588">
                <a:moveTo>
                  <a:pt x="16073" y="14436"/>
                </a:moveTo>
                <a:cubicBezTo>
                  <a:pt x="16082" y="14643"/>
                  <a:pt x="16098" y="14848"/>
                  <a:pt x="16098" y="15056"/>
                </a:cubicBezTo>
              </a:path>
              <a:path w="4541" h="1588">
                <a:moveTo>
                  <a:pt x="16396" y="14560"/>
                </a:moveTo>
                <a:cubicBezTo>
                  <a:pt x="16465" y="14467"/>
                  <a:pt x="16482" y="14434"/>
                  <a:pt x="16570" y="14461"/>
                </a:cubicBezTo>
                <a:cubicBezTo>
                  <a:pt x="16653" y="14688"/>
                  <a:pt x="16679" y="14837"/>
                  <a:pt x="16470" y="15007"/>
                </a:cubicBezTo>
                <a:cubicBezTo>
                  <a:pt x="16389" y="15073"/>
                  <a:pt x="16359" y="15010"/>
                  <a:pt x="16321" y="14957"/>
                </a:cubicBezTo>
                <a:cubicBezTo>
                  <a:pt x="16365" y="14841"/>
                  <a:pt x="16513" y="14820"/>
                  <a:pt x="16644" y="14858"/>
                </a:cubicBezTo>
                <a:cubicBezTo>
                  <a:pt x="16709" y="14877"/>
                  <a:pt x="16772" y="14961"/>
                  <a:pt x="16818" y="15007"/>
                </a:cubicBezTo>
              </a:path>
              <a:path w="4541" h="1588">
                <a:moveTo>
                  <a:pt x="19248" y="14387"/>
                </a:moveTo>
                <a:cubicBezTo>
                  <a:pt x="19374" y="14519"/>
                  <a:pt x="19492" y="14656"/>
                  <a:pt x="19621" y="14784"/>
                </a:cubicBezTo>
              </a:path>
              <a:path w="4541" h="1588">
                <a:moveTo>
                  <a:pt x="19621" y="14362"/>
                </a:moveTo>
                <a:cubicBezTo>
                  <a:pt x="19543" y="14490"/>
                  <a:pt x="19444" y="14642"/>
                  <a:pt x="19397" y="14784"/>
                </a:cubicBezTo>
                <a:cubicBezTo>
                  <a:pt x="19397" y="14800"/>
                  <a:pt x="19397" y="14817"/>
                  <a:pt x="19397" y="14833"/>
                </a:cubicBezTo>
              </a:path>
              <a:path w="4541" h="1588">
                <a:moveTo>
                  <a:pt x="20117" y="14362"/>
                </a:moveTo>
                <a:cubicBezTo>
                  <a:pt x="20127" y="14281"/>
                  <a:pt x="20148" y="14193"/>
                  <a:pt x="20241" y="14163"/>
                </a:cubicBezTo>
                <a:cubicBezTo>
                  <a:pt x="20329" y="14135"/>
                  <a:pt x="20404" y="14182"/>
                  <a:pt x="20414" y="14263"/>
                </a:cubicBezTo>
                <a:cubicBezTo>
                  <a:pt x="20422" y="14328"/>
                  <a:pt x="20392" y="14443"/>
                  <a:pt x="20340" y="14486"/>
                </a:cubicBezTo>
                <a:cubicBezTo>
                  <a:pt x="20260" y="14554"/>
                  <a:pt x="20138" y="14613"/>
                  <a:pt x="20092" y="14709"/>
                </a:cubicBezTo>
                <a:cubicBezTo>
                  <a:pt x="20061" y="14773"/>
                  <a:pt x="20050" y="14840"/>
                  <a:pt x="20042" y="14908"/>
                </a:cubicBezTo>
                <a:cubicBezTo>
                  <a:pt x="20106" y="14834"/>
                  <a:pt x="20149" y="14756"/>
                  <a:pt x="20241" y="14709"/>
                </a:cubicBezTo>
                <a:cubicBezTo>
                  <a:pt x="20285" y="14687"/>
                  <a:pt x="20358" y="14765"/>
                  <a:pt x="20389" y="14784"/>
                </a:cubicBezTo>
                <a:cubicBezTo>
                  <a:pt x="20459" y="14826"/>
                  <a:pt x="20484" y="14864"/>
                  <a:pt x="20563" y="14833"/>
                </a:cubicBezTo>
                <a:cubicBezTo>
                  <a:pt x="20580" y="14825"/>
                  <a:pt x="20596" y="14816"/>
                  <a:pt x="20613" y="148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97800" y="5375160"/>
            <a:ext cx="606240" cy="179640"/>
          </a:xfrm>
          <a:custGeom>
            <a:avLst/>
            <a:gdLst/>
            <a:ahLst/>
            <a:rect l="l" t="t" r="r" b="b"/>
            <a:pathLst>
              <a:path w="1687" h="498">
                <a:moveTo>
                  <a:pt x="18604" y="15131"/>
                </a:moveTo>
                <a:cubicBezTo>
                  <a:pt x="18604" y="15242"/>
                  <a:pt x="18599" y="15327"/>
                  <a:pt x="18628" y="15429"/>
                </a:cubicBezTo>
                <a:cubicBezTo>
                  <a:pt x="18989" y="15359"/>
                  <a:pt x="19326" y="15332"/>
                  <a:pt x="19695" y="15329"/>
                </a:cubicBezTo>
                <a:cubicBezTo>
                  <a:pt x="19792" y="15328"/>
                  <a:pt x="20121" y="15356"/>
                  <a:pt x="20191" y="15280"/>
                </a:cubicBezTo>
                <a:cubicBezTo>
                  <a:pt x="20228" y="15240"/>
                  <a:pt x="20264" y="15005"/>
                  <a:pt x="20290" y="1493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39000" y="5616720"/>
            <a:ext cx="7920" cy="169560"/>
          </a:xfrm>
          <a:custGeom>
            <a:avLst/>
            <a:gdLst/>
            <a:ahLst/>
            <a:rect l="l" t="t" r="r" b="b"/>
            <a:pathLst>
              <a:path w="26" h="472">
                <a:moveTo>
                  <a:pt x="19273" y="15652"/>
                </a:moveTo>
                <a:cubicBezTo>
                  <a:pt x="19273" y="15510"/>
                  <a:pt x="19297" y="15963"/>
                  <a:pt x="19298" y="15999"/>
                </a:cubicBezTo>
                <a:cubicBezTo>
                  <a:pt x="19298" y="16024"/>
                  <a:pt x="19298" y="16048"/>
                  <a:pt x="19298" y="1607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54920" y="5626080"/>
            <a:ext cx="142920" cy="152280"/>
          </a:xfrm>
          <a:custGeom>
            <a:avLst/>
            <a:gdLst/>
            <a:ahLst/>
            <a:rect l="l" t="t" r="r" b="b"/>
            <a:pathLst>
              <a:path w="398" h="423">
                <a:moveTo>
                  <a:pt x="19670" y="15652"/>
                </a:moveTo>
                <a:cubicBezTo>
                  <a:pt x="19622" y="15803"/>
                  <a:pt x="19605" y="15894"/>
                  <a:pt x="19621" y="16049"/>
                </a:cubicBezTo>
                <a:cubicBezTo>
                  <a:pt x="19766" y="16034"/>
                  <a:pt x="20091" y="15995"/>
                  <a:pt x="19993" y="15751"/>
                </a:cubicBezTo>
                <a:cubicBezTo>
                  <a:pt x="19891" y="15650"/>
                  <a:pt x="19854" y="15616"/>
                  <a:pt x="19745" y="156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76960" y="5670720"/>
            <a:ext cx="19080" cy="160200"/>
          </a:xfrm>
          <a:custGeom>
            <a:avLst/>
            <a:gdLst/>
            <a:ahLst/>
            <a:rect l="l" t="t" r="r" b="b"/>
            <a:pathLst>
              <a:path w="50" h="447">
                <a:moveTo>
                  <a:pt x="17438" y="15751"/>
                </a:moveTo>
                <a:cubicBezTo>
                  <a:pt x="17443" y="15913"/>
                  <a:pt x="17452" y="16041"/>
                  <a:pt x="17487" y="1619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84960" y="5653080"/>
            <a:ext cx="142920" cy="169920"/>
          </a:xfrm>
          <a:custGeom>
            <a:avLst/>
            <a:gdLst/>
            <a:ahLst/>
            <a:rect l="l" t="t" r="r" b="b"/>
            <a:pathLst>
              <a:path w="398" h="473">
                <a:moveTo>
                  <a:pt x="17760" y="15801"/>
                </a:moveTo>
                <a:cubicBezTo>
                  <a:pt x="17834" y="15727"/>
                  <a:pt x="17858" y="15702"/>
                  <a:pt x="17934" y="15701"/>
                </a:cubicBezTo>
                <a:cubicBezTo>
                  <a:pt x="18046" y="15822"/>
                  <a:pt x="18150" y="15979"/>
                  <a:pt x="17983" y="16123"/>
                </a:cubicBezTo>
                <a:cubicBezTo>
                  <a:pt x="17848" y="16239"/>
                  <a:pt x="17807" y="16142"/>
                  <a:pt x="17735" y="16049"/>
                </a:cubicBezTo>
                <a:cubicBezTo>
                  <a:pt x="17803" y="15981"/>
                  <a:pt x="17953" y="15984"/>
                  <a:pt x="18058" y="16024"/>
                </a:cubicBezTo>
                <a:cubicBezTo>
                  <a:pt x="18083" y="16040"/>
                  <a:pt x="18107" y="16057"/>
                  <a:pt x="18132" y="1607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61080" y="5634000"/>
            <a:ext cx="19080" cy="1350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18504" y="15652"/>
                </a:moveTo>
                <a:cubicBezTo>
                  <a:pt x="18504" y="15780"/>
                  <a:pt x="18530" y="15899"/>
                  <a:pt x="18554" y="160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89800" y="5705640"/>
            <a:ext cx="144360" cy="36360"/>
          </a:xfrm>
          <a:custGeom>
            <a:avLst/>
            <a:gdLst/>
            <a:ahLst/>
            <a:rect l="l" t="t" r="r" b="b"/>
            <a:pathLst>
              <a:path w="398" h="100">
                <a:moveTo>
                  <a:pt x="18306" y="15949"/>
                </a:moveTo>
                <a:cubicBezTo>
                  <a:pt x="18437" y="15917"/>
                  <a:pt x="18569" y="15880"/>
                  <a:pt x="18703" y="158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54880" y="5759280"/>
            <a:ext cx="411120" cy="179640"/>
          </a:xfrm>
          <a:custGeom>
            <a:avLst/>
            <a:gdLst/>
            <a:ahLst/>
            <a:rect l="l" t="t" r="r" b="b"/>
            <a:pathLst>
              <a:path w="1142" h="497">
                <a:moveTo>
                  <a:pt x="18207" y="16371"/>
                </a:moveTo>
                <a:cubicBezTo>
                  <a:pt x="18207" y="16346"/>
                  <a:pt x="18207" y="16322"/>
                  <a:pt x="18207" y="16297"/>
                </a:cubicBezTo>
                <a:cubicBezTo>
                  <a:pt x="18222" y="16364"/>
                  <a:pt x="18194" y="16512"/>
                  <a:pt x="18281" y="16495"/>
                </a:cubicBezTo>
                <a:cubicBezTo>
                  <a:pt x="18519" y="16449"/>
                  <a:pt x="18727" y="16363"/>
                  <a:pt x="18976" y="16346"/>
                </a:cubicBezTo>
                <a:cubicBezTo>
                  <a:pt x="19096" y="16338"/>
                  <a:pt x="19185" y="16360"/>
                  <a:pt x="19298" y="16371"/>
                </a:cubicBezTo>
                <a:cubicBezTo>
                  <a:pt x="19306" y="16244"/>
                  <a:pt x="19323" y="16123"/>
                  <a:pt x="19348" y="1599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53160" y="6072120"/>
            <a:ext cx="142920" cy="152640"/>
          </a:xfrm>
          <a:custGeom>
            <a:avLst/>
            <a:gdLst/>
            <a:ahLst/>
            <a:rect l="l" t="t" r="r" b="b"/>
            <a:pathLst>
              <a:path w="398" h="423">
                <a:moveTo>
                  <a:pt x="18504" y="16966"/>
                </a:moveTo>
                <a:cubicBezTo>
                  <a:pt x="18617" y="16839"/>
                  <a:pt x="18676" y="16860"/>
                  <a:pt x="18827" y="16917"/>
                </a:cubicBezTo>
                <a:cubicBezTo>
                  <a:pt x="18838" y="17088"/>
                  <a:pt x="18770" y="17225"/>
                  <a:pt x="18579" y="17289"/>
                </a:cubicBezTo>
                <a:cubicBezTo>
                  <a:pt x="18546" y="17289"/>
                  <a:pt x="18512" y="17289"/>
                  <a:pt x="18479" y="17289"/>
                </a:cubicBezTo>
                <a:cubicBezTo>
                  <a:pt x="18559" y="17156"/>
                  <a:pt x="18630" y="17071"/>
                  <a:pt x="18802" y="17090"/>
                </a:cubicBezTo>
                <a:cubicBezTo>
                  <a:pt x="18846" y="17112"/>
                  <a:pt x="18857" y="17115"/>
                  <a:pt x="18876" y="1714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85000" y="603720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19124" y="16793"/>
                </a:moveTo>
                <a:cubicBezTo>
                  <a:pt x="19256" y="16749"/>
                  <a:pt x="19332" y="16784"/>
                  <a:pt x="19323" y="16942"/>
                </a:cubicBezTo>
                <a:cubicBezTo>
                  <a:pt x="19315" y="17073"/>
                  <a:pt x="19244" y="17110"/>
                  <a:pt x="19149" y="17165"/>
                </a:cubicBezTo>
                <a:cubicBezTo>
                  <a:pt x="19075" y="17116"/>
                  <a:pt x="19173" y="17033"/>
                  <a:pt x="19248" y="17016"/>
                </a:cubicBezTo>
                <a:cubicBezTo>
                  <a:pt x="19327" y="16998"/>
                  <a:pt x="19364" y="17036"/>
                  <a:pt x="19397" y="170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56240" y="5965920"/>
            <a:ext cx="723960" cy="419040"/>
          </a:xfrm>
          <a:custGeom>
            <a:avLst/>
            <a:gdLst/>
            <a:ahLst/>
            <a:rect l="l" t="t" r="r" b="b"/>
            <a:pathLst>
              <a:path w="2010" h="1166">
                <a:moveTo>
                  <a:pt x="18306" y="17711"/>
                </a:moveTo>
                <a:cubicBezTo>
                  <a:pt x="18601" y="17750"/>
                  <a:pt x="18826" y="17691"/>
                  <a:pt x="19100" y="17562"/>
                </a:cubicBezTo>
                <a:cubicBezTo>
                  <a:pt x="19364" y="17438"/>
                  <a:pt x="19672" y="17260"/>
                  <a:pt x="19869" y="17041"/>
                </a:cubicBezTo>
                <a:cubicBezTo>
                  <a:pt x="19935" y="16930"/>
                  <a:pt x="19960" y="16904"/>
                  <a:pt x="19943" y="16818"/>
                </a:cubicBezTo>
                <a:cubicBezTo>
                  <a:pt x="19848" y="16613"/>
                  <a:pt x="19706" y="16586"/>
                  <a:pt x="19472" y="16570"/>
                </a:cubicBezTo>
                <a:cubicBezTo>
                  <a:pt x="19168" y="16549"/>
                  <a:pt x="18936" y="16611"/>
                  <a:pt x="18653" y="16718"/>
                </a:cubicBezTo>
                <a:cubicBezTo>
                  <a:pt x="18460" y="16791"/>
                  <a:pt x="18115" y="16863"/>
                  <a:pt x="17983" y="17041"/>
                </a:cubicBezTo>
                <a:cubicBezTo>
                  <a:pt x="17926" y="17119"/>
                  <a:pt x="17903" y="17331"/>
                  <a:pt x="17959" y="17413"/>
                </a:cubicBezTo>
                <a:cubicBezTo>
                  <a:pt x="18212" y="17783"/>
                  <a:pt x="18679" y="17542"/>
                  <a:pt x="19000" y="17438"/>
                </a:cubicBezTo>
                <a:cubicBezTo>
                  <a:pt x="19145" y="17391"/>
                  <a:pt x="19278" y="17334"/>
                  <a:pt x="19422" y="1728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:  Students will identify and apply the order of operations when solving expressions with expon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bcc4"/>
                </a:solidFill>
                <a:latin typeface="Arial"/>
              </a:rPr>
              <a:t>Evaluate each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5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 x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5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5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6 + 9) ÷ (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5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+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</a:t>
            </a:r>
            <a:r>
              <a:rPr b="1" lang="en-US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41280" y="2759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448" y="7665"/>
                </a:moveTo>
                <a:lnTo>
                  <a:pt x="3448" y="766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9960" y="1741320"/>
            <a:ext cx="847800" cy="214560"/>
          </a:xfrm>
          <a:custGeom>
            <a:avLst/>
            <a:gdLst/>
            <a:ahLst/>
            <a:rect l="l" t="t" r="r" b="b"/>
            <a:pathLst>
              <a:path w="2357" h="596">
                <a:moveTo>
                  <a:pt x="5184" y="5011"/>
                </a:moveTo>
                <a:cubicBezTo>
                  <a:pt x="5126" y="5136"/>
                  <a:pt x="5054" y="5250"/>
                  <a:pt x="5259" y="5234"/>
                </a:cubicBezTo>
                <a:cubicBezTo>
                  <a:pt x="5367" y="5212"/>
                  <a:pt x="5393" y="5209"/>
                  <a:pt x="5457" y="5184"/>
                </a:cubicBezTo>
              </a:path>
              <a:path w="2357" h="596">
                <a:moveTo>
                  <a:pt x="5432" y="4986"/>
                </a:moveTo>
                <a:cubicBezTo>
                  <a:pt x="5393" y="5135"/>
                  <a:pt x="5361" y="5289"/>
                  <a:pt x="5308" y="5432"/>
                </a:cubicBezTo>
              </a:path>
              <a:path w="2357" h="596">
                <a:moveTo>
                  <a:pt x="5581" y="5135"/>
                </a:moveTo>
                <a:cubicBezTo>
                  <a:pt x="5622" y="5169"/>
                  <a:pt x="5664" y="5200"/>
                  <a:pt x="5705" y="5234"/>
                </a:cubicBezTo>
              </a:path>
              <a:path w="2357" h="596">
                <a:moveTo>
                  <a:pt x="5755" y="5035"/>
                </a:moveTo>
                <a:cubicBezTo>
                  <a:pt x="5695" y="5144"/>
                  <a:pt x="5630" y="5238"/>
                  <a:pt x="5606" y="5358"/>
                </a:cubicBezTo>
              </a:path>
              <a:path w="2357" h="596">
                <a:moveTo>
                  <a:pt x="5879" y="5085"/>
                </a:moveTo>
                <a:cubicBezTo>
                  <a:pt x="5869" y="5217"/>
                  <a:pt x="5887" y="5241"/>
                  <a:pt x="6028" y="5209"/>
                </a:cubicBezTo>
              </a:path>
              <a:path w="2357" h="596">
                <a:moveTo>
                  <a:pt x="6052" y="5060"/>
                </a:moveTo>
                <a:cubicBezTo>
                  <a:pt x="6024" y="5185"/>
                  <a:pt x="6030" y="5308"/>
                  <a:pt x="6003" y="5432"/>
                </a:cubicBezTo>
              </a:path>
              <a:path w="2357" h="596">
                <a:moveTo>
                  <a:pt x="6276" y="5085"/>
                </a:moveTo>
                <a:cubicBezTo>
                  <a:pt x="6345" y="5143"/>
                  <a:pt x="6391" y="5191"/>
                  <a:pt x="6449" y="5259"/>
                </a:cubicBezTo>
              </a:path>
              <a:path w="2357" h="596">
                <a:moveTo>
                  <a:pt x="6524" y="5011"/>
                </a:moveTo>
                <a:cubicBezTo>
                  <a:pt x="6435" y="5080"/>
                  <a:pt x="6340" y="5195"/>
                  <a:pt x="6300" y="5308"/>
                </a:cubicBezTo>
                <a:cubicBezTo>
                  <a:pt x="6300" y="5325"/>
                  <a:pt x="6300" y="5341"/>
                  <a:pt x="6300" y="5358"/>
                </a:cubicBezTo>
              </a:path>
              <a:path w="2357" h="596">
                <a:moveTo>
                  <a:pt x="6548" y="5085"/>
                </a:moveTo>
                <a:cubicBezTo>
                  <a:pt x="6548" y="5207"/>
                  <a:pt x="6543" y="5260"/>
                  <a:pt x="6697" y="5234"/>
                </a:cubicBezTo>
                <a:cubicBezTo>
                  <a:pt x="6714" y="5226"/>
                  <a:pt x="6730" y="5217"/>
                  <a:pt x="6747" y="5209"/>
                </a:cubicBezTo>
              </a:path>
              <a:path w="2357" h="596">
                <a:moveTo>
                  <a:pt x="6821" y="4961"/>
                </a:moveTo>
                <a:cubicBezTo>
                  <a:pt x="6790" y="5087"/>
                  <a:pt x="6770" y="5204"/>
                  <a:pt x="6747" y="5333"/>
                </a:cubicBezTo>
              </a:path>
              <a:path w="2357" h="596">
                <a:moveTo>
                  <a:pt x="6945" y="5135"/>
                </a:moveTo>
                <a:cubicBezTo>
                  <a:pt x="7006" y="5216"/>
                  <a:pt x="7021" y="5228"/>
                  <a:pt x="7045" y="5283"/>
                </a:cubicBezTo>
              </a:path>
              <a:path w="2357" h="596">
                <a:moveTo>
                  <a:pt x="7045" y="5085"/>
                </a:moveTo>
                <a:cubicBezTo>
                  <a:pt x="6977" y="5197"/>
                  <a:pt x="6956" y="5224"/>
                  <a:pt x="6945" y="5308"/>
                </a:cubicBezTo>
              </a:path>
              <a:path w="2357" h="596">
                <a:moveTo>
                  <a:pt x="7169" y="5035"/>
                </a:moveTo>
                <a:cubicBezTo>
                  <a:pt x="7243" y="5135"/>
                  <a:pt x="7258" y="5140"/>
                  <a:pt x="7367" y="5085"/>
                </a:cubicBezTo>
              </a:path>
              <a:path w="2357" h="596">
                <a:moveTo>
                  <a:pt x="7466" y="4837"/>
                </a:moveTo>
                <a:cubicBezTo>
                  <a:pt x="7406" y="4966"/>
                  <a:pt x="7378" y="5090"/>
                  <a:pt x="7367" y="523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63800" y="2009880"/>
            <a:ext cx="492120" cy="187200"/>
          </a:xfrm>
          <a:custGeom>
            <a:avLst/>
            <a:gdLst/>
            <a:ahLst/>
            <a:rect l="l" t="t" r="r" b="b"/>
            <a:pathLst>
              <a:path w="1365" h="522">
                <a:moveTo>
                  <a:pt x="5606" y="5730"/>
                </a:moveTo>
                <a:cubicBezTo>
                  <a:pt x="5739" y="5614"/>
                  <a:pt x="5781" y="5808"/>
                  <a:pt x="5730" y="5928"/>
                </a:cubicBezTo>
                <a:cubicBezTo>
                  <a:pt x="5672" y="6064"/>
                  <a:pt x="5579" y="6080"/>
                  <a:pt x="5457" y="6102"/>
                </a:cubicBezTo>
                <a:cubicBezTo>
                  <a:pt x="5482" y="6003"/>
                  <a:pt x="5561" y="5947"/>
                  <a:pt x="5680" y="5978"/>
                </a:cubicBezTo>
                <a:cubicBezTo>
                  <a:pt x="5762" y="6020"/>
                  <a:pt x="5787" y="6020"/>
                  <a:pt x="5804" y="6077"/>
                </a:cubicBezTo>
              </a:path>
              <a:path w="1365" h="522">
                <a:moveTo>
                  <a:pt x="6052" y="5655"/>
                </a:moveTo>
                <a:cubicBezTo>
                  <a:pt x="5946" y="5610"/>
                  <a:pt x="5960" y="5645"/>
                  <a:pt x="5904" y="5730"/>
                </a:cubicBezTo>
                <a:cubicBezTo>
                  <a:pt x="5896" y="5738"/>
                  <a:pt x="5887" y="5747"/>
                  <a:pt x="5879" y="5755"/>
                </a:cubicBezTo>
                <a:cubicBezTo>
                  <a:pt x="5963" y="5748"/>
                  <a:pt x="6173" y="5672"/>
                  <a:pt x="6226" y="5779"/>
                </a:cubicBezTo>
                <a:cubicBezTo>
                  <a:pt x="6302" y="5932"/>
                  <a:pt x="6121" y="6020"/>
                  <a:pt x="6003" y="6003"/>
                </a:cubicBezTo>
                <a:cubicBezTo>
                  <a:pt x="5995" y="5995"/>
                  <a:pt x="5986" y="5986"/>
                  <a:pt x="5978" y="5978"/>
                </a:cubicBezTo>
              </a:path>
              <a:path w="1365" h="522">
                <a:moveTo>
                  <a:pt x="6300" y="5581"/>
                </a:moveTo>
                <a:cubicBezTo>
                  <a:pt x="6373" y="5705"/>
                  <a:pt x="6339" y="5777"/>
                  <a:pt x="6375" y="5904"/>
                </a:cubicBezTo>
                <a:cubicBezTo>
                  <a:pt x="6402" y="6001"/>
                  <a:pt x="6619" y="5941"/>
                  <a:pt x="6672" y="5928"/>
                </a:cubicBezTo>
                <a:cubicBezTo>
                  <a:pt x="6768" y="5904"/>
                  <a:pt x="6755" y="5833"/>
                  <a:pt x="6821" y="5755"/>
                </a:cubicBezTo>
                <a:cubicBezTo>
                  <a:pt x="6695" y="5744"/>
                  <a:pt x="6709" y="5740"/>
                  <a:pt x="6648" y="5854"/>
                </a:cubicBezTo>
              </a:path>
              <a:path w="1365" h="522">
                <a:moveTo>
                  <a:pt x="5928" y="5655"/>
                </a:moveTo>
                <a:cubicBezTo>
                  <a:pt x="6011" y="5615"/>
                  <a:pt x="6086" y="5597"/>
                  <a:pt x="6176" y="5581"/>
                </a:cubicBezTo>
                <a:cubicBezTo>
                  <a:pt x="6184" y="5581"/>
                  <a:pt x="6193" y="5581"/>
                  <a:pt x="6201" y="55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89040" y="2463840"/>
            <a:ext cx="1349280" cy="304920"/>
          </a:xfrm>
          <a:custGeom>
            <a:avLst/>
            <a:gdLst/>
            <a:ahLst/>
            <a:rect l="l" t="t" r="r" b="b"/>
            <a:pathLst>
              <a:path w="3747" h="844">
                <a:moveTo>
                  <a:pt x="4490" y="6995"/>
                </a:moveTo>
                <a:cubicBezTo>
                  <a:pt x="4422" y="6904"/>
                  <a:pt x="4448" y="7018"/>
                  <a:pt x="4440" y="7094"/>
                </a:cubicBezTo>
                <a:cubicBezTo>
                  <a:pt x="4589" y="7150"/>
                  <a:pt x="4794" y="7097"/>
                  <a:pt x="4961" y="7094"/>
                </a:cubicBezTo>
                <a:cubicBezTo>
                  <a:pt x="5168" y="7090"/>
                  <a:pt x="5390" y="7105"/>
                  <a:pt x="5581" y="7069"/>
                </a:cubicBezTo>
                <a:cubicBezTo>
                  <a:pt x="5687" y="7049"/>
                  <a:pt x="5710" y="6946"/>
                  <a:pt x="5730" y="6846"/>
                </a:cubicBezTo>
              </a:path>
              <a:path w="3747" h="844">
                <a:moveTo>
                  <a:pt x="4465" y="7293"/>
                </a:moveTo>
                <a:cubicBezTo>
                  <a:pt x="4441" y="7387"/>
                  <a:pt x="4422" y="7470"/>
                  <a:pt x="4415" y="7565"/>
                </a:cubicBezTo>
              </a:path>
              <a:path w="3747" h="844">
                <a:moveTo>
                  <a:pt x="4614" y="7541"/>
                </a:moveTo>
                <a:cubicBezTo>
                  <a:pt x="4638" y="7590"/>
                  <a:pt x="4638" y="7629"/>
                  <a:pt x="4638" y="7689"/>
                </a:cubicBezTo>
              </a:path>
              <a:path w="3747" h="844">
                <a:moveTo>
                  <a:pt x="5060" y="7144"/>
                </a:moveTo>
                <a:cubicBezTo>
                  <a:pt x="4979" y="7178"/>
                  <a:pt x="4878" y="7178"/>
                  <a:pt x="4837" y="7243"/>
                </a:cubicBezTo>
                <a:cubicBezTo>
                  <a:pt x="4829" y="7260"/>
                  <a:pt x="4820" y="7276"/>
                  <a:pt x="4812" y="7293"/>
                </a:cubicBezTo>
                <a:cubicBezTo>
                  <a:pt x="4915" y="7284"/>
                  <a:pt x="5051" y="7238"/>
                  <a:pt x="5011" y="7392"/>
                </a:cubicBezTo>
                <a:cubicBezTo>
                  <a:pt x="4990" y="7473"/>
                  <a:pt x="4938" y="7458"/>
                  <a:pt x="4887" y="7441"/>
                </a:cubicBezTo>
              </a:path>
              <a:path w="3747" h="844">
                <a:moveTo>
                  <a:pt x="5234" y="7218"/>
                </a:moveTo>
                <a:cubicBezTo>
                  <a:pt x="5279" y="7218"/>
                  <a:pt x="5411" y="7209"/>
                  <a:pt x="5333" y="7293"/>
                </a:cubicBezTo>
                <a:cubicBezTo>
                  <a:pt x="5316" y="7301"/>
                  <a:pt x="5300" y="7309"/>
                  <a:pt x="5283" y="7317"/>
                </a:cubicBezTo>
                <a:cubicBezTo>
                  <a:pt x="5351" y="7317"/>
                  <a:pt x="5381" y="7330"/>
                  <a:pt x="5407" y="7392"/>
                </a:cubicBezTo>
                <a:cubicBezTo>
                  <a:pt x="5336" y="7447"/>
                  <a:pt x="5301" y="7466"/>
                  <a:pt x="5209" y="7466"/>
                </a:cubicBezTo>
              </a:path>
              <a:path w="3747" h="844">
                <a:moveTo>
                  <a:pt x="5507" y="7218"/>
                </a:moveTo>
                <a:cubicBezTo>
                  <a:pt x="5537" y="7288"/>
                  <a:pt x="5548" y="7392"/>
                  <a:pt x="5631" y="7417"/>
                </a:cubicBezTo>
                <a:cubicBezTo>
                  <a:pt x="5688" y="7434"/>
                  <a:pt x="5759" y="7398"/>
                  <a:pt x="5804" y="7367"/>
                </a:cubicBezTo>
                <a:cubicBezTo>
                  <a:pt x="5850" y="7335"/>
                  <a:pt x="5847" y="7319"/>
                  <a:pt x="5854" y="7268"/>
                </a:cubicBezTo>
                <a:cubicBezTo>
                  <a:pt x="5769" y="7280"/>
                  <a:pt x="5750" y="7309"/>
                  <a:pt x="5730" y="7392"/>
                </a:cubicBezTo>
              </a:path>
              <a:path w="3747" h="844">
                <a:moveTo>
                  <a:pt x="6350" y="7169"/>
                </a:moveTo>
                <a:cubicBezTo>
                  <a:pt x="6329" y="7237"/>
                  <a:pt x="6325" y="7293"/>
                  <a:pt x="6325" y="7367"/>
                </a:cubicBezTo>
              </a:path>
              <a:path w="3747" h="844">
                <a:moveTo>
                  <a:pt x="6226" y="7293"/>
                </a:moveTo>
                <a:cubicBezTo>
                  <a:pt x="6304" y="7275"/>
                  <a:pt x="6375" y="7265"/>
                  <a:pt x="6449" y="7243"/>
                </a:cubicBezTo>
              </a:path>
              <a:path w="3747" h="844">
                <a:moveTo>
                  <a:pt x="6722" y="7169"/>
                </a:moveTo>
                <a:cubicBezTo>
                  <a:pt x="6800" y="7134"/>
                  <a:pt x="6818" y="7127"/>
                  <a:pt x="6896" y="7144"/>
                </a:cubicBezTo>
                <a:cubicBezTo>
                  <a:pt x="6880" y="7286"/>
                  <a:pt x="6815" y="7295"/>
                  <a:pt x="6697" y="7367"/>
                </a:cubicBezTo>
                <a:cubicBezTo>
                  <a:pt x="6773" y="7375"/>
                  <a:pt x="6844" y="7392"/>
                  <a:pt x="6921" y="7392"/>
                </a:cubicBezTo>
              </a:path>
              <a:path w="3747" h="844">
                <a:moveTo>
                  <a:pt x="7193" y="7144"/>
                </a:moveTo>
                <a:cubicBezTo>
                  <a:pt x="7147" y="7203"/>
                  <a:pt x="7024" y="7398"/>
                  <a:pt x="7218" y="7392"/>
                </a:cubicBezTo>
                <a:cubicBezTo>
                  <a:pt x="7246" y="7391"/>
                  <a:pt x="7477" y="7252"/>
                  <a:pt x="7417" y="7193"/>
                </a:cubicBezTo>
                <a:cubicBezTo>
                  <a:pt x="7334" y="7152"/>
                  <a:pt x="7317" y="7144"/>
                  <a:pt x="7268" y="7119"/>
                </a:cubicBezTo>
              </a:path>
              <a:path w="3747" h="844">
                <a:moveTo>
                  <a:pt x="7913" y="7069"/>
                </a:moveTo>
                <a:cubicBezTo>
                  <a:pt x="7994" y="7110"/>
                  <a:pt x="8068" y="7078"/>
                  <a:pt x="8161" y="7069"/>
                </a:cubicBezTo>
              </a:path>
              <a:path w="3747" h="844">
                <a:moveTo>
                  <a:pt x="7913" y="7193"/>
                </a:moveTo>
                <a:cubicBezTo>
                  <a:pt x="7990" y="7181"/>
                  <a:pt x="8055" y="7169"/>
                  <a:pt x="8136" y="71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87800" y="2374920"/>
            <a:ext cx="849240" cy="250920"/>
          </a:xfrm>
          <a:custGeom>
            <a:avLst/>
            <a:gdLst/>
            <a:ahLst/>
            <a:rect l="l" t="t" r="r" b="b"/>
            <a:pathLst>
              <a:path w="2358" h="696">
                <a:moveTo>
                  <a:pt x="8979" y="6796"/>
                </a:moveTo>
                <a:cubicBezTo>
                  <a:pt x="8930" y="6930"/>
                  <a:pt x="8878" y="7054"/>
                  <a:pt x="8855" y="7193"/>
                </a:cubicBezTo>
              </a:path>
              <a:path w="2358" h="696">
                <a:moveTo>
                  <a:pt x="9203" y="7144"/>
                </a:moveTo>
                <a:cubicBezTo>
                  <a:pt x="9177" y="7222"/>
                  <a:pt x="9166" y="7250"/>
                  <a:pt x="9128" y="7293"/>
                </a:cubicBezTo>
              </a:path>
              <a:path w="2358" h="696">
                <a:moveTo>
                  <a:pt x="9996" y="6697"/>
                </a:moveTo>
                <a:cubicBezTo>
                  <a:pt x="9905" y="6707"/>
                  <a:pt x="9743" y="6689"/>
                  <a:pt x="9674" y="6697"/>
                </a:cubicBezTo>
                <a:cubicBezTo>
                  <a:pt x="9579" y="6708"/>
                  <a:pt x="9556" y="6828"/>
                  <a:pt x="9525" y="6896"/>
                </a:cubicBezTo>
                <a:cubicBezTo>
                  <a:pt x="9614" y="6882"/>
                  <a:pt x="9765" y="6804"/>
                  <a:pt x="9847" y="6896"/>
                </a:cubicBezTo>
                <a:cubicBezTo>
                  <a:pt x="9855" y="6921"/>
                  <a:pt x="9864" y="6945"/>
                  <a:pt x="9872" y="6970"/>
                </a:cubicBezTo>
                <a:cubicBezTo>
                  <a:pt x="9792" y="7131"/>
                  <a:pt x="9729" y="7157"/>
                  <a:pt x="9550" y="7169"/>
                </a:cubicBezTo>
                <a:cubicBezTo>
                  <a:pt x="9533" y="7169"/>
                  <a:pt x="9517" y="7169"/>
                  <a:pt x="9500" y="7169"/>
                </a:cubicBezTo>
              </a:path>
              <a:path w="2358" h="696">
                <a:moveTo>
                  <a:pt x="10492" y="6598"/>
                </a:moveTo>
                <a:cubicBezTo>
                  <a:pt x="10338" y="6657"/>
                  <a:pt x="10288" y="6578"/>
                  <a:pt x="10170" y="6722"/>
                </a:cubicBezTo>
                <a:cubicBezTo>
                  <a:pt x="10162" y="6739"/>
                  <a:pt x="10153" y="6755"/>
                  <a:pt x="10145" y="6772"/>
                </a:cubicBezTo>
                <a:cubicBezTo>
                  <a:pt x="10274" y="6788"/>
                  <a:pt x="10388" y="6745"/>
                  <a:pt x="10492" y="6821"/>
                </a:cubicBezTo>
                <a:cubicBezTo>
                  <a:pt x="10597" y="6898"/>
                  <a:pt x="10378" y="7070"/>
                  <a:pt x="10319" y="7094"/>
                </a:cubicBezTo>
                <a:cubicBezTo>
                  <a:pt x="10251" y="7094"/>
                  <a:pt x="10232" y="7097"/>
                  <a:pt x="10195" y="7069"/>
                </a:cubicBezTo>
              </a:path>
              <a:path w="2358" h="696">
                <a:moveTo>
                  <a:pt x="10790" y="6623"/>
                </a:moveTo>
                <a:cubicBezTo>
                  <a:pt x="10744" y="6714"/>
                  <a:pt x="10740" y="6768"/>
                  <a:pt x="10740" y="6871"/>
                </a:cubicBezTo>
                <a:cubicBezTo>
                  <a:pt x="10740" y="6977"/>
                  <a:pt x="10790" y="6968"/>
                  <a:pt x="10864" y="7020"/>
                </a:cubicBezTo>
                <a:cubicBezTo>
                  <a:pt x="10927" y="7064"/>
                  <a:pt x="11014" y="7039"/>
                  <a:pt x="11088" y="7020"/>
                </a:cubicBezTo>
                <a:cubicBezTo>
                  <a:pt x="11173" y="6998"/>
                  <a:pt x="11173" y="6989"/>
                  <a:pt x="11212" y="6921"/>
                </a:cubicBezTo>
                <a:cubicBezTo>
                  <a:pt x="11144" y="6862"/>
                  <a:pt x="11102" y="6816"/>
                  <a:pt x="11013" y="6871"/>
                </a:cubicBezTo>
                <a:cubicBezTo>
                  <a:pt x="10981" y="6891"/>
                  <a:pt x="10972" y="6966"/>
                  <a:pt x="10964" y="699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12920" y="3197160"/>
            <a:ext cx="411120" cy="330120"/>
          </a:xfrm>
          <a:custGeom>
            <a:avLst/>
            <a:gdLst/>
            <a:ahLst/>
            <a:rect l="l" t="t" r="r" b="b"/>
            <a:pathLst>
              <a:path w="1142" h="919">
                <a:moveTo>
                  <a:pt x="3894" y="8930"/>
                </a:moveTo>
                <a:cubicBezTo>
                  <a:pt x="3851" y="8843"/>
                  <a:pt x="3768" y="8878"/>
                  <a:pt x="3696" y="8930"/>
                </a:cubicBezTo>
                <a:cubicBezTo>
                  <a:pt x="3588" y="9008"/>
                  <a:pt x="3659" y="9048"/>
                  <a:pt x="3746" y="9004"/>
                </a:cubicBezTo>
                <a:cubicBezTo>
                  <a:pt x="3762" y="8996"/>
                  <a:pt x="3779" y="8987"/>
                  <a:pt x="3795" y="8979"/>
                </a:cubicBezTo>
                <a:cubicBezTo>
                  <a:pt x="3795" y="9080"/>
                  <a:pt x="3777" y="9177"/>
                  <a:pt x="3770" y="9277"/>
                </a:cubicBezTo>
              </a:path>
              <a:path w="1142" h="919">
                <a:moveTo>
                  <a:pt x="3969" y="9079"/>
                </a:moveTo>
                <a:cubicBezTo>
                  <a:pt x="4039" y="9172"/>
                  <a:pt x="4062" y="9198"/>
                  <a:pt x="4068" y="9277"/>
                </a:cubicBezTo>
              </a:path>
              <a:path w="1142" h="919">
                <a:moveTo>
                  <a:pt x="4118" y="9029"/>
                </a:moveTo>
                <a:cubicBezTo>
                  <a:pt x="4057" y="9094"/>
                  <a:pt x="4002" y="9160"/>
                  <a:pt x="3944" y="9227"/>
                </a:cubicBezTo>
              </a:path>
              <a:path w="1142" h="919">
                <a:moveTo>
                  <a:pt x="4490" y="9054"/>
                </a:moveTo>
                <a:cubicBezTo>
                  <a:pt x="4379" y="9017"/>
                  <a:pt x="4332" y="9019"/>
                  <a:pt x="4291" y="9128"/>
                </a:cubicBezTo>
                <a:cubicBezTo>
                  <a:pt x="4497" y="9101"/>
                  <a:pt x="4490" y="9069"/>
                  <a:pt x="4465" y="9302"/>
                </a:cubicBezTo>
              </a:path>
              <a:path w="1142" h="919">
                <a:moveTo>
                  <a:pt x="4291" y="9451"/>
                </a:moveTo>
                <a:cubicBezTo>
                  <a:pt x="4198" y="9457"/>
                  <a:pt x="4147" y="9455"/>
                  <a:pt x="4068" y="9500"/>
                </a:cubicBezTo>
                <a:cubicBezTo>
                  <a:pt x="4131" y="9544"/>
                  <a:pt x="4357" y="9622"/>
                  <a:pt x="4316" y="9723"/>
                </a:cubicBezTo>
                <a:cubicBezTo>
                  <a:pt x="4259" y="9780"/>
                  <a:pt x="4233" y="9796"/>
                  <a:pt x="4167" y="9773"/>
                </a:cubicBezTo>
                <a:cubicBezTo>
                  <a:pt x="4189" y="9623"/>
                  <a:pt x="4267" y="9560"/>
                  <a:pt x="4390" y="9475"/>
                </a:cubicBezTo>
                <a:cubicBezTo>
                  <a:pt x="4407" y="9467"/>
                  <a:pt x="4423" y="9459"/>
                  <a:pt x="4440" y="9451"/>
                </a:cubicBezTo>
              </a:path>
              <a:path w="1142" h="919">
                <a:moveTo>
                  <a:pt x="4787" y="9451"/>
                </a:moveTo>
                <a:cubicBezTo>
                  <a:pt x="4787" y="9574"/>
                  <a:pt x="4750" y="9681"/>
                  <a:pt x="4713" y="979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66960" y="3232080"/>
            <a:ext cx="79200" cy="216000"/>
          </a:xfrm>
          <a:custGeom>
            <a:avLst/>
            <a:gdLst/>
            <a:ahLst/>
            <a:rect l="l" t="t" r="r" b="b"/>
            <a:pathLst>
              <a:path w="224" h="597">
                <a:moveTo>
                  <a:pt x="5184" y="8979"/>
                </a:moveTo>
                <a:cubicBezTo>
                  <a:pt x="5258" y="8979"/>
                  <a:pt x="5333" y="8979"/>
                  <a:pt x="5407" y="8979"/>
                </a:cubicBezTo>
              </a:path>
              <a:path w="224" h="597">
                <a:moveTo>
                  <a:pt x="5184" y="9575"/>
                </a:moveTo>
                <a:cubicBezTo>
                  <a:pt x="5283" y="9550"/>
                  <a:pt x="5317" y="9542"/>
                  <a:pt x="5383" y="95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3170160"/>
            <a:ext cx="804600" cy="357120"/>
          </a:xfrm>
          <a:custGeom>
            <a:avLst/>
            <a:gdLst/>
            <a:ahLst/>
            <a:rect l="l" t="t" r="r" b="b"/>
            <a:pathLst>
              <a:path w="2234" h="993">
                <a:moveTo>
                  <a:pt x="6201" y="8930"/>
                </a:moveTo>
                <a:cubicBezTo>
                  <a:pt x="6244" y="8901"/>
                  <a:pt x="6390" y="8817"/>
                  <a:pt x="6424" y="8905"/>
                </a:cubicBezTo>
                <a:cubicBezTo>
                  <a:pt x="6424" y="8980"/>
                  <a:pt x="6423" y="9005"/>
                  <a:pt x="6350" y="9004"/>
                </a:cubicBezTo>
                <a:cubicBezTo>
                  <a:pt x="6342" y="9012"/>
                  <a:pt x="6333" y="9021"/>
                  <a:pt x="6325" y="9029"/>
                </a:cubicBezTo>
                <a:cubicBezTo>
                  <a:pt x="6387" y="9060"/>
                  <a:pt x="6507" y="9131"/>
                  <a:pt x="6375" y="9178"/>
                </a:cubicBezTo>
                <a:cubicBezTo>
                  <a:pt x="6276" y="9198"/>
                  <a:pt x="6260" y="9206"/>
                  <a:pt x="6201" y="9203"/>
                </a:cubicBezTo>
              </a:path>
              <a:path w="2234" h="993">
                <a:moveTo>
                  <a:pt x="6772" y="8930"/>
                </a:moveTo>
                <a:cubicBezTo>
                  <a:pt x="6793" y="9010"/>
                  <a:pt x="6813" y="9078"/>
                  <a:pt x="6846" y="9153"/>
                </a:cubicBezTo>
              </a:path>
              <a:path w="2234" h="993">
                <a:moveTo>
                  <a:pt x="6796" y="8905"/>
                </a:moveTo>
                <a:cubicBezTo>
                  <a:pt x="6730" y="9006"/>
                  <a:pt x="6688" y="9088"/>
                  <a:pt x="6648" y="9203"/>
                </a:cubicBezTo>
              </a:path>
              <a:path w="2234" h="993">
                <a:moveTo>
                  <a:pt x="6995" y="8905"/>
                </a:moveTo>
                <a:cubicBezTo>
                  <a:pt x="7043" y="8833"/>
                  <a:pt x="7055" y="8810"/>
                  <a:pt x="7119" y="8806"/>
                </a:cubicBezTo>
                <a:cubicBezTo>
                  <a:pt x="7082" y="8964"/>
                  <a:pt x="7097" y="8927"/>
                  <a:pt x="6970" y="9029"/>
                </a:cubicBezTo>
                <a:cubicBezTo>
                  <a:pt x="7018" y="9010"/>
                  <a:pt x="7232" y="8906"/>
                  <a:pt x="7169" y="9054"/>
                </a:cubicBezTo>
                <a:cubicBezTo>
                  <a:pt x="7104" y="9118"/>
                  <a:pt x="7067" y="9142"/>
                  <a:pt x="6995" y="9153"/>
                </a:cubicBezTo>
              </a:path>
              <a:path w="2234" h="993">
                <a:moveTo>
                  <a:pt x="6375" y="9500"/>
                </a:moveTo>
                <a:cubicBezTo>
                  <a:pt x="6363" y="9419"/>
                  <a:pt x="6300" y="9330"/>
                  <a:pt x="6201" y="9327"/>
                </a:cubicBezTo>
                <a:cubicBezTo>
                  <a:pt x="6065" y="9323"/>
                  <a:pt x="6007" y="9388"/>
                  <a:pt x="5928" y="9475"/>
                </a:cubicBezTo>
                <a:cubicBezTo>
                  <a:pt x="6077" y="9550"/>
                  <a:pt x="6139" y="9503"/>
                  <a:pt x="6276" y="9426"/>
                </a:cubicBezTo>
                <a:cubicBezTo>
                  <a:pt x="6289" y="9575"/>
                  <a:pt x="6285" y="9653"/>
                  <a:pt x="6251" y="9798"/>
                </a:cubicBezTo>
              </a:path>
              <a:path w="2234" h="993">
                <a:moveTo>
                  <a:pt x="6796" y="9599"/>
                </a:moveTo>
                <a:cubicBezTo>
                  <a:pt x="6846" y="9575"/>
                  <a:pt x="6896" y="9550"/>
                  <a:pt x="6945" y="9525"/>
                </a:cubicBezTo>
              </a:path>
              <a:path w="2234" h="993">
                <a:moveTo>
                  <a:pt x="6747" y="9748"/>
                </a:moveTo>
                <a:cubicBezTo>
                  <a:pt x="6824" y="9717"/>
                  <a:pt x="6868" y="9702"/>
                  <a:pt x="6921" y="9649"/>
                </a:cubicBezTo>
              </a:path>
              <a:path w="2234" h="993">
                <a:moveTo>
                  <a:pt x="7243" y="9327"/>
                </a:moveTo>
                <a:cubicBezTo>
                  <a:pt x="7317" y="9273"/>
                  <a:pt x="7392" y="9232"/>
                  <a:pt x="7466" y="9178"/>
                </a:cubicBezTo>
                <a:cubicBezTo>
                  <a:pt x="7500" y="9322"/>
                  <a:pt x="7530" y="9433"/>
                  <a:pt x="7491" y="9575"/>
                </a:cubicBezTo>
              </a:path>
              <a:path w="2234" h="993">
                <a:moveTo>
                  <a:pt x="7764" y="9128"/>
                </a:moveTo>
                <a:cubicBezTo>
                  <a:pt x="7789" y="9027"/>
                  <a:pt x="7888" y="8947"/>
                  <a:pt x="7987" y="9054"/>
                </a:cubicBezTo>
                <a:cubicBezTo>
                  <a:pt x="8131" y="9210"/>
                  <a:pt x="7930" y="9397"/>
                  <a:pt x="7789" y="9451"/>
                </a:cubicBezTo>
                <a:cubicBezTo>
                  <a:pt x="7772" y="9451"/>
                  <a:pt x="7756" y="9451"/>
                  <a:pt x="7739" y="9451"/>
                </a:cubicBezTo>
                <a:cubicBezTo>
                  <a:pt x="7777" y="9318"/>
                  <a:pt x="7864" y="9273"/>
                  <a:pt x="8012" y="9277"/>
                </a:cubicBezTo>
                <a:cubicBezTo>
                  <a:pt x="8105" y="9280"/>
                  <a:pt x="8124" y="9360"/>
                  <a:pt x="8161" y="94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19160" y="3973680"/>
            <a:ext cx="304920" cy="196560"/>
          </a:xfrm>
          <a:custGeom>
            <a:avLst/>
            <a:gdLst/>
            <a:ahLst/>
            <a:rect l="l" t="t" r="r" b="b"/>
            <a:pathLst>
              <a:path w="844" h="547">
                <a:moveTo>
                  <a:pt x="5432" y="11088"/>
                </a:moveTo>
                <a:cubicBezTo>
                  <a:pt x="5508" y="11023"/>
                  <a:pt x="5518" y="11029"/>
                  <a:pt x="5606" y="11088"/>
                </a:cubicBezTo>
                <a:cubicBezTo>
                  <a:pt x="5582" y="11228"/>
                  <a:pt x="5522" y="11275"/>
                  <a:pt x="5407" y="11361"/>
                </a:cubicBezTo>
                <a:cubicBezTo>
                  <a:pt x="5435" y="11365"/>
                  <a:pt x="5716" y="11410"/>
                  <a:pt x="5631" y="11485"/>
                </a:cubicBezTo>
                <a:cubicBezTo>
                  <a:pt x="5551" y="11555"/>
                  <a:pt x="5418" y="11577"/>
                  <a:pt x="5333" y="11534"/>
                </a:cubicBezTo>
              </a:path>
              <a:path w="844" h="547">
                <a:moveTo>
                  <a:pt x="6176" y="11112"/>
                </a:moveTo>
                <a:cubicBezTo>
                  <a:pt x="6071" y="11081"/>
                  <a:pt x="5967" y="11088"/>
                  <a:pt x="5854" y="11088"/>
                </a:cubicBezTo>
                <a:cubicBezTo>
                  <a:pt x="5752" y="11088"/>
                  <a:pt x="5764" y="11295"/>
                  <a:pt x="5755" y="11385"/>
                </a:cubicBezTo>
                <a:cubicBezTo>
                  <a:pt x="5863" y="11335"/>
                  <a:pt x="6012" y="11301"/>
                  <a:pt x="6127" y="11385"/>
                </a:cubicBezTo>
                <a:cubicBezTo>
                  <a:pt x="6135" y="11402"/>
                  <a:pt x="6144" y="11418"/>
                  <a:pt x="6152" y="11435"/>
                </a:cubicBezTo>
                <a:cubicBezTo>
                  <a:pt x="6122" y="11540"/>
                  <a:pt x="5995" y="11567"/>
                  <a:pt x="5879" y="11584"/>
                </a:cubicBezTo>
                <a:cubicBezTo>
                  <a:pt x="5811" y="11584"/>
                  <a:pt x="5792" y="11587"/>
                  <a:pt x="5755" y="1155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55920" y="3983040"/>
            <a:ext cx="108000" cy="17784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6846" y="11361"/>
                </a:moveTo>
                <a:cubicBezTo>
                  <a:pt x="6863" y="11291"/>
                  <a:pt x="7008" y="11311"/>
                  <a:pt x="7119" y="11311"/>
                </a:cubicBezTo>
              </a:path>
              <a:path w="299" h="497">
                <a:moveTo>
                  <a:pt x="6945" y="11063"/>
                </a:moveTo>
                <a:lnTo>
                  <a:pt x="6945" y="11063"/>
                </a:lnTo>
              </a:path>
              <a:path w="299" h="497">
                <a:moveTo>
                  <a:pt x="6970" y="11559"/>
                </a:moveTo>
                <a:lnTo>
                  <a:pt x="6970" y="11559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33800" y="3286080"/>
            <a:ext cx="795240" cy="357120"/>
          </a:xfrm>
          <a:custGeom>
            <a:avLst/>
            <a:gdLst/>
            <a:ahLst/>
            <a:rect l="l" t="t" r="r" b="b"/>
            <a:pathLst>
              <a:path w="2209" h="993">
                <a:moveTo>
                  <a:pt x="8781" y="9674"/>
                </a:moveTo>
                <a:cubicBezTo>
                  <a:pt x="8732" y="9772"/>
                  <a:pt x="8639" y="9897"/>
                  <a:pt x="8830" y="9897"/>
                </a:cubicBezTo>
                <a:cubicBezTo>
                  <a:pt x="8847" y="9889"/>
                  <a:pt x="8863" y="9880"/>
                  <a:pt x="8880" y="9872"/>
                </a:cubicBezTo>
              </a:path>
              <a:path w="2209" h="993">
                <a:moveTo>
                  <a:pt x="8954" y="9674"/>
                </a:moveTo>
                <a:cubicBezTo>
                  <a:pt x="8880" y="9822"/>
                  <a:pt x="8825" y="9961"/>
                  <a:pt x="8781" y="10120"/>
                </a:cubicBezTo>
              </a:path>
              <a:path w="2209" h="993">
                <a:moveTo>
                  <a:pt x="9029" y="9773"/>
                </a:moveTo>
                <a:cubicBezTo>
                  <a:pt x="9072" y="9877"/>
                  <a:pt x="9104" y="9972"/>
                  <a:pt x="9153" y="10071"/>
                </a:cubicBezTo>
              </a:path>
              <a:path w="2209" h="993">
                <a:moveTo>
                  <a:pt x="9252" y="9723"/>
                </a:moveTo>
                <a:cubicBezTo>
                  <a:pt x="9159" y="9817"/>
                  <a:pt x="9096" y="9948"/>
                  <a:pt x="9029" y="10071"/>
                </a:cubicBezTo>
              </a:path>
              <a:path w="2209" h="993">
                <a:moveTo>
                  <a:pt x="9376" y="9773"/>
                </a:moveTo>
                <a:cubicBezTo>
                  <a:pt x="9405" y="9904"/>
                  <a:pt x="9363" y="9924"/>
                  <a:pt x="9525" y="9897"/>
                </a:cubicBezTo>
              </a:path>
              <a:path w="2209" h="993">
                <a:moveTo>
                  <a:pt x="9649" y="9624"/>
                </a:moveTo>
                <a:cubicBezTo>
                  <a:pt x="9595" y="9774"/>
                  <a:pt x="9542" y="9918"/>
                  <a:pt x="9500" y="10071"/>
                </a:cubicBezTo>
              </a:path>
              <a:path w="2209" h="993">
                <a:moveTo>
                  <a:pt x="9351" y="9128"/>
                </a:moveTo>
                <a:cubicBezTo>
                  <a:pt x="9339" y="9289"/>
                  <a:pt x="9303" y="9423"/>
                  <a:pt x="9252" y="9575"/>
                </a:cubicBezTo>
              </a:path>
              <a:path w="2209" h="993">
                <a:moveTo>
                  <a:pt x="9599" y="9178"/>
                </a:moveTo>
                <a:cubicBezTo>
                  <a:pt x="9597" y="9230"/>
                  <a:pt x="9536" y="9520"/>
                  <a:pt x="9599" y="9550"/>
                </a:cubicBezTo>
                <a:cubicBezTo>
                  <a:pt x="9737" y="9616"/>
                  <a:pt x="9818" y="9531"/>
                  <a:pt x="9847" y="9401"/>
                </a:cubicBezTo>
                <a:cubicBezTo>
                  <a:pt x="9847" y="9384"/>
                  <a:pt x="9847" y="9368"/>
                  <a:pt x="9847" y="9351"/>
                </a:cubicBezTo>
                <a:cubicBezTo>
                  <a:pt x="9722" y="9336"/>
                  <a:pt x="9685" y="9336"/>
                  <a:pt x="9649" y="9500"/>
                </a:cubicBezTo>
                <a:cubicBezTo>
                  <a:pt x="9649" y="9574"/>
                  <a:pt x="9649" y="9583"/>
                  <a:pt x="9649" y="9624"/>
                </a:cubicBezTo>
              </a:path>
              <a:path w="2209" h="993">
                <a:moveTo>
                  <a:pt x="10170" y="9351"/>
                </a:moveTo>
                <a:cubicBezTo>
                  <a:pt x="10251" y="9351"/>
                  <a:pt x="10304" y="9343"/>
                  <a:pt x="10368" y="9376"/>
                </a:cubicBezTo>
              </a:path>
              <a:path w="2209" h="993">
                <a:moveTo>
                  <a:pt x="10864" y="9351"/>
                </a:moveTo>
                <a:cubicBezTo>
                  <a:pt x="10903" y="9248"/>
                  <a:pt x="10896" y="9221"/>
                  <a:pt x="10790" y="9178"/>
                </a:cubicBezTo>
                <a:cubicBezTo>
                  <a:pt x="10691" y="9138"/>
                  <a:pt x="10603" y="9169"/>
                  <a:pt x="10616" y="9302"/>
                </a:cubicBezTo>
                <a:cubicBezTo>
                  <a:pt x="10624" y="9318"/>
                  <a:pt x="10633" y="9335"/>
                  <a:pt x="10641" y="9351"/>
                </a:cubicBezTo>
                <a:cubicBezTo>
                  <a:pt x="10754" y="9334"/>
                  <a:pt x="10807" y="9309"/>
                  <a:pt x="10889" y="9227"/>
                </a:cubicBezTo>
                <a:cubicBezTo>
                  <a:pt x="10904" y="9339"/>
                  <a:pt x="10914" y="9438"/>
                  <a:pt x="10914" y="95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24120" y="4545000"/>
            <a:ext cx="793800" cy="169920"/>
          </a:xfrm>
          <a:custGeom>
            <a:avLst/>
            <a:gdLst/>
            <a:ahLst/>
            <a:rect l="l" t="t" r="r" b="b"/>
            <a:pathLst>
              <a:path w="2209" h="472">
                <a:moveTo>
                  <a:pt x="7764" y="12675"/>
                </a:moveTo>
                <a:cubicBezTo>
                  <a:pt x="7675" y="12741"/>
                  <a:pt x="7595" y="12860"/>
                  <a:pt x="7565" y="12973"/>
                </a:cubicBezTo>
                <a:cubicBezTo>
                  <a:pt x="7565" y="13041"/>
                  <a:pt x="7562" y="13060"/>
                  <a:pt x="7590" y="13097"/>
                </a:cubicBezTo>
                <a:cubicBezTo>
                  <a:pt x="7670" y="13079"/>
                  <a:pt x="7856" y="12932"/>
                  <a:pt x="7789" y="12973"/>
                </a:cubicBezTo>
                <a:cubicBezTo>
                  <a:pt x="7772" y="12989"/>
                  <a:pt x="7756" y="13006"/>
                  <a:pt x="7739" y="13022"/>
                </a:cubicBezTo>
              </a:path>
              <a:path w="2209" h="472">
                <a:moveTo>
                  <a:pt x="8012" y="12750"/>
                </a:moveTo>
                <a:cubicBezTo>
                  <a:pt x="8091" y="12842"/>
                  <a:pt x="8143" y="12829"/>
                  <a:pt x="8260" y="12799"/>
                </a:cubicBezTo>
              </a:path>
              <a:path w="2209" h="472">
                <a:moveTo>
                  <a:pt x="8260" y="12626"/>
                </a:moveTo>
                <a:cubicBezTo>
                  <a:pt x="8214" y="12758"/>
                  <a:pt x="8175" y="12883"/>
                  <a:pt x="8161" y="13022"/>
                </a:cubicBezTo>
              </a:path>
              <a:path w="2209" h="472">
                <a:moveTo>
                  <a:pt x="8483" y="12750"/>
                </a:moveTo>
                <a:cubicBezTo>
                  <a:pt x="8513" y="12803"/>
                  <a:pt x="8537" y="12846"/>
                  <a:pt x="8582" y="12874"/>
                </a:cubicBezTo>
              </a:path>
              <a:path w="2209" h="472">
                <a:moveTo>
                  <a:pt x="8682" y="12700"/>
                </a:moveTo>
                <a:cubicBezTo>
                  <a:pt x="8562" y="12740"/>
                  <a:pt x="8498" y="12849"/>
                  <a:pt x="8409" y="12948"/>
                </a:cubicBezTo>
              </a:path>
              <a:path w="2209" h="472">
                <a:moveTo>
                  <a:pt x="9128" y="12650"/>
                </a:moveTo>
                <a:lnTo>
                  <a:pt x="9128" y="12650"/>
                </a:lnTo>
              </a:path>
              <a:path w="2209" h="472">
                <a:moveTo>
                  <a:pt x="9128" y="12626"/>
                </a:moveTo>
                <a:cubicBezTo>
                  <a:pt x="9061" y="12642"/>
                  <a:pt x="9027" y="12626"/>
                  <a:pt x="8954" y="12626"/>
                </a:cubicBezTo>
                <a:cubicBezTo>
                  <a:pt x="8860" y="12626"/>
                  <a:pt x="8854" y="12680"/>
                  <a:pt x="8830" y="12750"/>
                </a:cubicBezTo>
                <a:cubicBezTo>
                  <a:pt x="8889" y="12773"/>
                  <a:pt x="9153" y="12829"/>
                  <a:pt x="9178" y="12874"/>
                </a:cubicBezTo>
                <a:cubicBezTo>
                  <a:pt x="9170" y="12899"/>
                  <a:pt x="9161" y="12923"/>
                  <a:pt x="9153" y="12948"/>
                </a:cubicBezTo>
                <a:cubicBezTo>
                  <a:pt x="9041" y="12935"/>
                  <a:pt x="9010" y="12939"/>
                  <a:pt x="9004" y="12824"/>
                </a:cubicBezTo>
                <a:cubicBezTo>
                  <a:pt x="9000" y="12741"/>
                  <a:pt x="9074" y="12705"/>
                  <a:pt x="9128" y="12650"/>
                </a:cubicBezTo>
              </a:path>
              <a:path w="2209" h="472">
                <a:moveTo>
                  <a:pt x="8706" y="12998"/>
                </a:moveTo>
                <a:lnTo>
                  <a:pt x="8706" y="12998"/>
                </a:lnTo>
              </a:path>
              <a:path w="2209" h="472">
                <a:moveTo>
                  <a:pt x="9451" y="12750"/>
                </a:moveTo>
                <a:cubicBezTo>
                  <a:pt x="9590" y="12703"/>
                  <a:pt x="9629" y="12688"/>
                  <a:pt x="9723" y="12675"/>
                </a:cubicBezTo>
              </a:path>
              <a:path w="2209" h="472">
                <a:moveTo>
                  <a:pt x="9500" y="12874"/>
                </a:moveTo>
                <a:cubicBezTo>
                  <a:pt x="9605" y="12874"/>
                  <a:pt x="9677" y="12863"/>
                  <a:pt x="9773" y="128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41840" y="4464000"/>
            <a:ext cx="536400" cy="277920"/>
          </a:xfrm>
          <a:custGeom>
            <a:avLst/>
            <a:gdLst/>
            <a:ahLst/>
            <a:rect l="l" t="t" r="r" b="b"/>
            <a:pathLst>
              <a:path w="1489" h="770">
                <a:moveTo>
                  <a:pt x="10691" y="12576"/>
                </a:moveTo>
                <a:cubicBezTo>
                  <a:pt x="10609" y="12603"/>
                  <a:pt x="10499" y="12674"/>
                  <a:pt x="10468" y="12774"/>
                </a:cubicBezTo>
                <a:cubicBezTo>
                  <a:pt x="10468" y="12791"/>
                  <a:pt x="10468" y="12807"/>
                  <a:pt x="10468" y="12824"/>
                </a:cubicBezTo>
                <a:cubicBezTo>
                  <a:pt x="10543" y="12853"/>
                  <a:pt x="10612" y="12831"/>
                  <a:pt x="10666" y="12898"/>
                </a:cubicBezTo>
                <a:cubicBezTo>
                  <a:pt x="10742" y="12991"/>
                  <a:pt x="10725" y="13095"/>
                  <a:pt x="10616" y="13146"/>
                </a:cubicBezTo>
                <a:cubicBezTo>
                  <a:pt x="10543" y="13180"/>
                  <a:pt x="10470" y="13171"/>
                  <a:pt x="10393" y="13171"/>
                </a:cubicBezTo>
              </a:path>
              <a:path w="1489" h="770">
                <a:moveTo>
                  <a:pt x="11038" y="12650"/>
                </a:moveTo>
                <a:cubicBezTo>
                  <a:pt x="11069" y="12763"/>
                  <a:pt x="11107" y="12882"/>
                  <a:pt x="11137" y="12998"/>
                </a:cubicBezTo>
              </a:path>
              <a:path w="1489" h="770">
                <a:moveTo>
                  <a:pt x="11410" y="12452"/>
                </a:moveTo>
                <a:cubicBezTo>
                  <a:pt x="11608" y="12381"/>
                  <a:pt x="11716" y="12493"/>
                  <a:pt x="11733" y="12725"/>
                </a:cubicBezTo>
                <a:cubicBezTo>
                  <a:pt x="11750" y="12950"/>
                  <a:pt x="11600" y="12954"/>
                  <a:pt x="11509" y="12824"/>
                </a:cubicBezTo>
                <a:cubicBezTo>
                  <a:pt x="11653" y="12694"/>
                  <a:pt x="11712" y="12727"/>
                  <a:pt x="11881" y="128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24320" y="4357800"/>
            <a:ext cx="411480" cy="277560"/>
          </a:xfrm>
          <a:custGeom>
            <a:avLst/>
            <a:gdLst/>
            <a:ahLst/>
            <a:rect l="l" t="t" r="r" b="b"/>
            <a:pathLst>
              <a:path w="1142" h="770">
                <a:moveTo>
                  <a:pt x="14684" y="12129"/>
                </a:moveTo>
                <a:cubicBezTo>
                  <a:pt x="14511" y="12210"/>
                  <a:pt x="14488" y="12200"/>
                  <a:pt x="14536" y="12402"/>
                </a:cubicBezTo>
                <a:cubicBezTo>
                  <a:pt x="14544" y="12427"/>
                  <a:pt x="14552" y="12452"/>
                  <a:pt x="14560" y="12477"/>
                </a:cubicBezTo>
                <a:cubicBezTo>
                  <a:pt x="14656" y="12391"/>
                  <a:pt x="14802" y="12234"/>
                  <a:pt x="14908" y="12402"/>
                </a:cubicBezTo>
                <a:cubicBezTo>
                  <a:pt x="15025" y="12588"/>
                  <a:pt x="14931" y="12845"/>
                  <a:pt x="14709" y="12874"/>
                </a:cubicBezTo>
                <a:cubicBezTo>
                  <a:pt x="14592" y="12850"/>
                  <a:pt x="14556" y="12847"/>
                  <a:pt x="14511" y="12774"/>
                </a:cubicBezTo>
              </a:path>
              <a:path w="1142" h="770">
                <a:moveTo>
                  <a:pt x="15404" y="12105"/>
                </a:moveTo>
                <a:cubicBezTo>
                  <a:pt x="15429" y="12257"/>
                  <a:pt x="15453" y="12397"/>
                  <a:pt x="15453" y="12551"/>
                </a:cubicBezTo>
              </a:path>
              <a:path w="1142" h="770">
                <a:moveTo>
                  <a:pt x="15329" y="12303"/>
                </a:moveTo>
                <a:cubicBezTo>
                  <a:pt x="15458" y="12286"/>
                  <a:pt x="15531" y="12270"/>
                  <a:pt x="15652" y="123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75200" y="4340160"/>
            <a:ext cx="474840" cy="660600"/>
          </a:xfrm>
          <a:custGeom>
            <a:avLst/>
            <a:gdLst/>
            <a:ahLst/>
            <a:rect l="l" t="t" r="r" b="b"/>
            <a:pathLst>
              <a:path w="1316" h="1837">
                <a:moveTo>
                  <a:pt x="16570" y="12055"/>
                </a:moveTo>
                <a:cubicBezTo>
                  <a:pt x="16511" y="12101"/>
                  <a:pt x="16379" y="12099"/>
                  <a:pt x="16346" y="12129"/>
                </a:cubicBezTo>
                <a:cubicBezTo>
                  <a:pt x="16281" y="12188"/>
                  <a:pt x="16352" y="12248"/>
                  <a:pt x="16346" y="12303"/>
                </a:cubicBezTo>
                <a:cubicBezTo>
                  <a:pt x="16338" y="12320"/>
                  <a:pt x="16329" y="12336"/>
                  <a:pt x="16321" y="12353"/>
                </a:cubicBezTo>
                <a:cubicBezTo>
                  <a:pt x="16420" y="12304"/>
                  <a:pt x="16577" y="12202"/>
                  <a:pt x="16669" y="12328"/>
                </a:cubicBezTo>
                <a:cubicBezTo>
                  <a:pt x="16800" y="12506"/>
                  <a:pt x="16565" y="12625"/>
                  <a:pt x="16421" y="12601"/>
                </a:cubicBezTo>
                <a:cubicBezTo>
                  <a:pt x="16388" y="12584"/>
                  <a:pt x="16354" y="12568"/>
                  <a:pt x="16321" y="12551"/>
                </a:cubicBezTo>
              </a:path>
              <a:path w="1316" h="1837">
                <a:moveTo>
                  <a:pt x="16917" y="12080"/>
                </a:moveTo>
                <a:cubicBezTo>
                  <a:pt x="16990" y="12269"/>
                  <a:pt x="16995" y="12400"/>
                  <a:pt x="16966" y="12601"/>
                </a:cubicBezTo>
              </a:path>
              <a:path w="1316" h="1837">
                <a:moveTo>
                  <a:pt x="17264" y="12179"/>
                </a:moveTo>
                <a:cubicBezTo>
                  <a:pt x="17385" y="12133"/>
                  <a:pt x="17439" y="12141"/>
                  <a:pt x="17562" y="12179"/>
                </a:cubicBezTo>
                <a:cubicBezTo>
                  <a:pt x="17574" y="12425"/>
                  <a:pt x="17529" y="12478"/>
                  <a:pt x="17289" y="12526"/>
                </a:cubicBezTo>
                <a:cubicBezTo>
                  <a:pt x="17289" y="12391"/>
                  <a:pt x="17412" y="12199"/>
                  <a:pt x="17562" y="12378"/>
                </a:cubicBezTo>
                <a:cubicBezTo>
                  <a:pt x="17604" y="12485"/>
                  <a:pt x="17615" y="12509"/>
                  <a:pt x="17636" y="12576"/>
                </a:cubicBezTo>
              </a:path>
              <a:path w="1316" h="1837">
                <a:moveTo>
                  <a:pt x="16371" y="12824"/>
                </a:moveTo>
                <a:cubicBezTo>
                  <a:pt x="16678" y="12833"/>
                  <a:pt x="16982" y="12849"/>
                  <a:pt x="17289" y="12849"/>
                </a:cubicBezTo>
                <a:cubicBezTo>
                  <a:pt x="17370" y="12849"/>
                  <a:pt x="17433" y="12863"/>
                  <a:pt x="17512" y="12874"/>
                </a:cubicBezTo>
              </a:path>
              <a:path w="1316" h="1837">
                <a:moveTo>
                  <a:pt x="16545" y="13271"/>
                </a:moveTo>
                <a:cubicBezTo>
                  <a:pt x="16493" y="13411"/>
                  <a:pt x="16456" y="13565"/>
                  <a:pt x="16470" y="13717"/>
                </a:cubicBezTo>
                <a:cubicBezTo>
                  <a:pt x="16495" y="13980"/>
                  <a:pt x="16724" y="13875"/>
                  <a:pt x="16818" y="13717"/>
                </a:cubicBezTo>
                <a:cubicBezTo>
                  <a:pt x="16836" y="13643"/>
                  <a:pt x="16844" y="13636"/>
                  <a:pt x="16842" y="13593"/>
                </a:cubicBezTo>
                <a:cubicBezTo>
                  <a:pt x="16708" y="13624"/>
                  <a:pt x="16710" y="13643"/>
                  <a:pt x="16694" y="13791"/>
                </a:cubicBezTo>
              </a:path>
              <a:path w="1316" h="1837">
                <a:moveTo>
                  <a:pt x="16966" y="13295"/>
                </a:moveTo>
                <a:cubicBezTo>
                  <a:pt x="17008" y="13403"/>
                  <a:pt x="17012" y="13405"/>
                  <a:pt x="16966" y="13519"/>
                </a:cubicBezTo>
                <a:cubicBezTo>
                  <a:pt x="17060" y="13492"/>
                  <a:pt x="17138" y="13454"/>
                  <a:pt x="17239" y="13444"/>
                </a:cubicBezTo>
              </a:path>
              <a:path w="1316" h="1837">
                <a:moveTo>
                  <a:pt x="17214" y="13146"/>
                </a:moveTo>
                <a:cubicBezTo>
                  <a:pt x="17193" y="13346"/>
                  <a:pt x="17190" y="13540"/>
                  <a:pt x="17190" y="1374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66000" y="3990960"/>
            <a:ext cx="946080" cy="519120"/>
          </a:xfrm>
          <a:custGeom>
            <a:avLst/>
            <a:gdLst/>
            <a:ahLst/>
            <a:rect l="l" t="t" r="r" b="b"/>
            <a:pathLst>
              <a:path w="2630" h="1439">
                <a:moveTo>
                  <a:pt x="20935" y="11807"/>
                </a:moveTo>
                <a:cubicBezTo>
                  <a:pt x="20744" y="11839"/>
                  <a:pt x="20720" y="11782"/>
                  <a:pt x="20662" y="11956"/>
                </a:cubicBezTo>
                <a:cubicBezTo>
                  <a:pt x="20640" y="12023"/>
                  <a:pt x="20636" y="12041"/>
                  <a:pt x="20613" y="12080"/>
                </a:cubicBezTo>
                <a:cubicBezTo>
                  <a:pt x="20724" y="12080"/>
                  <a:pt x="20929" y="12062"/>
                  <a:pt x="20935" y="12229"/>
                </a:cubicBezTo>
                <a:cubicBezTo>
                  <a:pt x="20941" y="12409"/>
                  <a:pt x="20683" y="12336"/>
                  <a:pt x="20613" y="12303"/>
                </a:cubicBezTo>
              </a:path>
              <a:path w="2630" h="1439">
                <a:moveTo>
                  <a:pt x="21158" y="11881"/>
                </a:moveTo>
                <a:cubicBezTo>
                  <a:pt x="21168" y="12023"/>
                  <a:pt x="21183" y="12159"/>
                  <a:pt x="21183" y="12303"/>
                </a:cubicBezTo>
              </a:path>
              <a:path w="2630" h="1439">
                <a:moveTo>
                  <a:pt x="21406" y="11906"/>
                </a:moveTo>
                <a:cubicBezTo>
                  <a:pt x="21558" y="11967"/>
                  <a:pt x="21821" y="12106"/>
                  <a:pt x="21605" y="12303"/>
                </a:cubicBezTo>
                <a:cubicBezTo>
                  <a:pt x="21564" y="12320"/>
                  <a:pt x="21522" y="12336"/>
                  <a:pt x="21481" y="12353"/>
                </a:cubicBezTo>
                <a:cubicBezTo>
                  <a:pt x="21433" y="12273"/>
                  <a:pt x="21501" y="12040"/>
                  <a:pt x="21630" y="12179"/>
                </a:cubicBezTo>
                <a:cubicBezTo>
                  <a:pt x="21638" y="12204"/>
                  <a:pt x="21646" y="12229"/>
                  <a:pt x="21654" y="12254"/>
                </a:cubicBezTo>
              </a:path>
              <a:path w="2630" h="1439">
                <a:moveTo>
                  <a:pt x="20265" y="12452"/>
                </a:moveTo>
                <a:cubicBezTo>
                  <a:pt x="20265" y="12287"/>
                  <a:pt x="20228" y="12087"/>
                  <a:pt x="20241" y="11931"/>
                </a:cubicBezTo>
                <a:cubicBezTo>
                  <a:pt x="20245" y="11883"/>
                  <a:pt x="20270" y="11810"/>
                  <a:pt x="20315" y="11782"/>
                </a:cubicBezTo>
                <a:cubicBezTo>
                  <a:pt x="20412" y="11721"/>
                  <a:pt x="20532" y="11719"/>
                  <a:pt x="20638" y="11708"/>
                </a:cubicBezTo>
                <a:cubicBezTo>
                  <a:pt x="20982" y="11672"/>
                  <a:pt x="21311" y="11692"/>
                  <a:pt x="21654" y="11733"/>
                </a:cubicBezTo>
                <a:cubicBezTo>
                  <a:pt x="21768" y="11747"/>
                  <a:pt x="21864" y="11757"/>
                  <a:pt x="21977" y="11757"/>
                </a:cubicBezTo>
              </a:path>
              <a:path w="2630" h="1439">
                <a:moveTo>
                  <a:pt x="19397" y="12030"/>
                </a:moveTo>
                <a:cubicBezTo>
                  <a:pt x="19384" y="12172"/>
                  <a:pt x="19353" y="12309"/>
                  <a:pt x="19348" y="12452"/>
                </a:cubicBezTo>
                <a:cubicBezTo>
                  <a:pt x="19348" y="12469"/>
                  <a:pt x="19348" y="12485"/>
                  <a:pt x="19348" y="12502"/>
                </a:cubicBezTo>
                <a:cubicBezTo>
                  <a:pt x="19524" y="12517"/>
                  <a:pt x="19569" y="12420"/>
                  <a:pt x="19670" y="12278"/>
                </a:cubicBezTo>
                <a:cubicBezTo>
                  <a:pt x="19549" y="12319"/>
                  <a:pt x="19509" y="12379"/>
                  <a:pt x="19521" y="12502"/>
                </a:cubicBezTo>
              </a:path>
              <a:path w="2630" h="1439">
                <a:moveTo>
                  <a:pt x="19769" y="12080"/>
                </a:moveTo>
                <a:cubicBezTo>
                  <a:pt x="19776" y="12146"/>
                  <a:pt x="19787" y="12212"/>
                  <a:pt x="19794" y="12278"/>
                </a:cubicBezTo>
                <a:cubicBezTo>
                  <a:pt x="19886" y="12259"/>
                  <a:pt x="19975" y="12238"/>
                  <a:pt x="20067" y="12229"/>
                </a:cubicBezTo>
              </a:path>
              <a:path w="2630" h="1439">
                <a:moveTo>
                  <a:pt x="19968" y="11906"/>
                </a:moveTo>
                <a:cubicBezTo>
                  <a:pt x="19968" y="12100"/>
                  <a:pt x="19972" y="12285"/>
                  <a:pt x="19993" y="12477"/>
                </a:cubicBezTo>
              </a:path>
              <a:path w="2630" h="1439">
                <a:moveTo>
                  <a:pt x="21654" y="11137"/>
                </a:moveTo>
                <a:cubicBezTo>
                  <a:pt x="21526" y="11083"/>
                  <a:pt x="21510" y="11083"/>
                  <a:pt x="21382" y="11137"/>
                </a:cubicBezTo>
                <a:cubicBezTo>
                  <a:pt x="21490" y="11237"/>
                  <a:pt x="21724" y="11380"/>
                  <a:pt x="21704" y="11559"/>
                </a:cubicBezTo>
                <a:cubicBezTo>
                  <a:pt x="21654" y="11609"/>
                  <a:pt x="21638" y="11625"/>
                  <a:pt x="21605" y="11658"/>
                </a:cubicBezTo>
                <a:cubicBezTo>
                  <a:pt x="21574" y="11504"/>
                  <a:pt x="21566" y="11339"/>
                  <a:pt x="21630" y="11187"/>
                </a:cubicBezTo>
                <a:cubicBezTo>
                  <a:pt x="21646" y="11162"/>
                  <a:pt x="21663" y="11137"/>
                  <a:pt x="21679" y="1111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87800" y="4010040"/>
            <a:ext cx="162000" cy="196920"/>
          </a:xfrm>
          <a:custGeom>
            <a:avLst/>
            <a:gdLst/>
            <a:ahLst/>
            <a:rect l="l" t="t" r="r" b="b"/>
            <a:pathLst>
              <a:path w="448" h="547">
                <a:moveTo>
                  <a:pt x="8855" y="11162"/>
                </a:moveTo>
                <a:cubicBezTo>
                  <a:pt x="9005" y="11137"/>
                  <a:pt x="9149" y="11137"/>
                  <a:pt x="9302" y="11137"/>
                </a:cubicBezTo>
                <a:cubicBezTo>
                  <a:pt x="9258" y="11312"/>
                  <a:pt x="9197" y="11483"/>
                  <a:pt x="9153" y="11658"/>
                </a:cubicBezTo>
                <a:cubicBezTo>
                  <a:pt x="9153" y="11666"/>
                  <a:pt x="9153" y="11675"/>
                  <a:pt x="9153" y="1168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79920" y="4054320"/>
            <a:ext cx="133200" cy="61920"/>
          </a:xfrm>
          <a:custGeom>
            <a:avLst/>
            <a:gdLst/>
            <a:ahLst/>
            <a:rect l="l" t="t" r="r" b="b"/>
            <a:pathLst>
              <a:path w="373" h="175">
                <a:moveTo>
                  <a:pt x="10220" y="11311"/>
                </a:moveTo>
                <a:cubicBezTo>
                  <a:pt x="10306" y="11295"/>
                  <a:pt x="10387" y="11285"/>
                  <a:pt x="10468" y="11261"/>
                </a:cubicBezTo>
              </a:path>
              <a:path w="373" h="175">
                <a:moveTo>
                  <a:pt x="10244" y="11435"/>
                </a:moveTo>
                <a:cubicBezTo>
                  <a:pt x="10360" y="11435"/>
                  <a:pt x="10476" y="11435"/>
                  <a:pt x="10592" y="1143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25960" y="3902040"/>
            <a:ext cx="554040" cy="376200"/>
          </a:xfrm>
          <a:custGeom>
            <a:avLst/>
            <a:gdLst/>
            <a:ahLst/>
            <a:rect l="l" t="t" r="r" b="b"/>
            <a:pathLst>
              <a:path w="1539" h="1042">
                <a:moveTo>
                  <a:pt x="12278" y="11137"/>
                </a:moveTo>
                <a:cubicBezTo>
                  <a:pt x="12168" y="11127"/>
                  <a:pt x="11984" y="11028"/>
                  <a:pt x="11906" y="11137"/>
                </a:cubicBezTo>
                <a:cubicBezTo>
                  <a:pt x="11841" y="11229"/>
                  <a:pt x="11819" y="11282"/>
                  <a:pt x="11807" y="11385"/>
                </a:cubicBezTo>
                <a:cubicBezTo>
                  <a:pt x="11919" y="11370"/>
                  <a:pt x="12019" y="11316"/>
                  <a:pt x="12129" y="11361"/>
                </a:cubicBezTo>
                <a:cubicBezTo>
                  <a:pt x="12221" y="11398"/>
                  <a:pt x="12292" y="11521"/>
                  <a:pt x="12204" y="11609"/>
                </a:cubicBezTo>
                <a:cubicBezTo>
                  <a:pt x="12091" y="11722"/>
                  <a:pt x="11883" y="11642"/>
                  <a:pt x="11757" y="11609"/>
                </a:cubicBezTo>
              </a:path>
              <a:path w="1539" h="1042">
                <a:moveTo>
                  <a:pt x="11460" y="11658"/>
                </a:moveTo>
                <a:cubicBezTo>
                  <a:pt x="11495" y="11753"/>
                  <a:pt x="11621" y="11825"/>
                  <a:pt x="11733" y="11857"/>
                </a:cubicBezTo>
                <a:cubicBezTo>
                  <a:pt x="11933" y="11913"/>
                  <a:pt x="12202" y="11896"/>
                  <a:pt x="12402" y="11857"/>
                </a:cubicBezTo>
                <a:cubicBezTo>
                  <a:pt x="12582" y="11822"/>
                  <a:pt x="12774" y="11749"/>
                  <a:pt x="12898" y="11609"/>
                </a:cubicBezTo>
                <a:cubicBezTo>
                  <a:pt x="12988" y="11507"/>
                  <a:pt x="13014" y="11312"/>
                  <a:pt x="12973" y="11187"/>
                </a:cubicBezTo>
                <a:cubicBezTo>
                  <a:pt x="12912" y="11001"/>
                  <a:pt x="12718" y="10935"/>
                  <a:pt x="12551" y="10889"/>
                </a:cubicBezTo>
                <a:cubicBezTo>
                  <a:pt x="12381" y="10842"/>
                  <a:pt x="12231" y="10840"/>
                  <a:pt x="12055" y="10840"/>
                </a:cubicBezTo>
                <a:cubicBezTo>
                  <a:pt x="11897" y="10840"/>
                  <a:pt x="11803" y="10847"/>
                  <a:pt x="11658" y="10914"/>
                </a:cubicBezTo>
                <a:cubicBezTo>
                  <a:pt x="11546" y="10966"/>
                  <a:pt x="11503" y="11033"/>
                  <a:pt x="11485" y="11162"/>
                </a:cubicBezTo>
                <a:cubicBezTo>
                  <a:pt x="11469" y="11276"/>
                  <a:pt x="11478" y="11456"/>
                  <a:pt x="11534" y="11559"/>
                </a:cubicBezTo>
                <a:cubicBezTo>
                  <a:pt x="11580" y="11644"/>
                  <a:pt x="11683" y="11688"/>
                  <a:pt x="11757" y="1173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2920" y="2276640"/>
            <a:ext cx="1741320" cy="1250640"/>
          </a:xfrm>
          <a:custGeom>
            <a:avLst/>
            <a:gdLst/>
            <a:ahLst/>
            <a:rect l="l" t="t" r="r" b="b"/>
            <a:pathLst>
              <a:path w="4838" h="3474">
                <a:moveTo>
                  <a:pt x="7367" y="9748"/>
                </a:moveTo>
                <a:cubicBezTo>
                  <a:pt x="7615" y="9748"/>
                  <a:pt x="7841" y="9746"/>
                  <a:pt x="8086" y="9699"/>
                </a:cubicBezTo>
                <a:cubicBezTo>
                  <a:pt x="8353" y="9648"/>
                  <a:pt x="8575" y="9593"/>
                  <a:pt x="8756" y="9376"/>
                </a:cubicBezTo>
                <a:cubicBezTo>
                  <a:pt x="8881" y="9227"/>
                  <a:pt x="8896" y="9107"/>
                  <a:pt x="8855" y="8930"/>
                </a:cubicBezTo>
                <a:cubicBezTo>
                  <a:pt x="8817" y="8765"/>
                  <a:pt x="8754" y="8711"/>
                  <a:pt x="8632" y="8607"/>
                </a:cubicBezTo>
                <a:cubicBezTo>
                  <a:pt x="8560" y="8546"/>
                  <a:pt x="8524" y="8533"/>
                  <a:pt x="8434" y="8508"/>
                </a:cubicBezTo>
                <a:cubicBezTo>
                  <a:pt x="8282" y="8465"/>
                  <a:pt x="8119" y="8483"/>
                  <a:pt x="7962" y="8483"/>
                </a:cubicBezTo>
                <a:cubicBezTo>
                  <a:pt x="7709" y="8483"/>
                  <a:pt x="7588" y="8529"/>
                  <a:pt x="7367" y="8632"/>
                </a:cubicBezTo>
                <a:cubicBezTo>
                  <a:pt x="7207" y="8707"/>
                  <a:pt x="7074" y="8781"/>
                  <a:pt x="6970" y="8930"/>
                </a:cubicBezTo>
                <a:cubicBezTo>
                  <a:pt x="6826" y="9136"/>
                  <a:pt x="6893" y="9433"/>
                  <a:pt x="7045" y="9624"/>
                </a:cubicBezTo>
                <a:cubicBezTo>
                  <a:pt x="7198" y="9816"/>
                  <a:pt x="7401" y="9809"/>
                  <a:pt x="7615" y="9773"/>
                </a:cubicBezTo>
              </a:path>
              <a:path w="4838" h="3474">
                <a:moveTo>
                  <a:pt x="8781" y="7590"/>
                </a:moveTo>
                <a:cubicBezTo>
                  <a:pt x="9096" y="7590"/>
                  <a:pt x="9408" y="7561"/>
                  <a:pt x="9723" y="7541"/>
                </a:cubicBezTo>
                <a:cubicBezTo>
                  <a:pt x="10175" y="7512"/>
                  <a:pt x="10627" y="7441"/>
                  <a:pt x="11063" y="7317"/>
                </a:cubicBezTo>
                <a:cubicBezTo>
                  <a:pt x="11254" y="7263"/>
                  <a:pt x="11545" y="7209"/>
                  <a:pt x="11683" y="7045"/>
                </a:cubicBezTo>
                <a:cubicBezTo>
                  <a:pt x="11805" y="6901"/>
                  <a:pt x="11652" y="6710"/>
                  <a:pt x="11559" y="6598"/>
                </a:cubicBezTo>
                <a:cubicBezTo>
                  <a:pt x="11396" y="6401"/>
                  <a:pt x="11099" y="6380"/>
                  <a:pt x="10864" y="6350"/>
                </a:cubicBezTo>
                <a:cubicBezTo>
                  <a:pt x="10513" y="6305"/>
                  <a:pt x="10173" y="6337"/>
                  <a:pt x="9823" y="6350"/>
                </a:cubicBezTo>
                <a:cubicBezTo>
                  <a:pt x="9528" y="6361"/>
                  <a:pt x="9219" y="6408"/>
                  <a:pt x="8930" y="6474"/>
                </a:cubicBezTo>
                <a:cubicBezTo>
                  <a:pt x="8757" y="6513"/>
                  <a:pt x="8677" y="6603"/>
                  <a:pt x="8558" y="6722"/>
                </a:cubicBezTo>
                <a:cubicBezTo>
                  <a:pt x="8507" y="6773"/>
                  <a:pt x="8364" y="6921"/>
                  <a:pt x="8359" y="6995"/>
                </a:cubicBezTo>
                <a:cubicBezTo>
                  <a:pt x="8349" y="7137"/>
                  <a:pt x="8410" y="7249"/>
                  <a:pt x="8508" y="7342"/>
                </a:cubicBezTo>
                <a:cubicBezTo>
                  <a:pt x="8667" y="7493"/>
                  <a:pt x="8813" y="7620"/>
                  <a:pt x="9029" y="7590"/>
                </a:cubicBezTo>
                <a:cubicBezTo>
                  <a:pt x="9137" y="7568"/>
                  <a:pt x="9163" y="7565"/>
                  <a:pt x="9227" y="754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08200" y="4232160"/>
            <a:ext cx="419040" cy="277920"/>
          </a:xfrm>
          <a:custGeom>
            <a:avLst/>
            <a:gdLst/>
            <a:ahLst/>
            <a:rect l="l" t="t" r="r" b="b"/>
            <a:pathLst>
              <a:path w="1167" h="770">
                <a:moveTo>
                  <a:pt x="7615" y="11757"/>
                </a:moveTo>
                <a:cubicBezTo>
                  <a:pt x="7489" y="11789"/>
                  <a:pt x="7322" y="11840"/>
                  <a:pt x="7243" y="11956"/>
                </a:cubicBezTo>
                <a:cubicBezTo>
                  <a:pt x="7243" y="11972"/>
                  <a:pt x="7243" y="11989"/>
                  <a:pt x="7243" y="12005"/>
                </a:cubicBezTo>
                <a:cubicBezTo>
                  <a:pt x="7316" y="12035"/>
                  <a:pt x="7555" y="12052"/>
                  <a:pt x="7441" y="12179"/>
                </a:cubicBezTo>
                <a:cubicBezTo>
                  <a:pt x="7285" y="12353"/>
                  <a:pt x="7477" y="12010"/>
                  <a:pt x="7516" y="11956"/>
                </a:cubicBezTo>
              </a:path>
              <a:path w="1167" h="770">
                <a:moveTo>
                  <a:pt x="7838" y="11931"/>
                </a:moveTo>
                <a:cubicBezTo>
                  <a:pt x="7818" y="12025"/>
                  <a:pt x="7813" y="12107"/>
                  <a:pt x="7813" y="12204"/>
                </a:cubicBezTo>
              </a:path>
              <a:path w="1167" h="770">
                <a:moveTo>
                  <a:pt x="7938" y="11931"/>
                </a:moveTo>
                <a:cubicBezTo>
                  <a:pt x="7846" y="12028"/>
                  <a:pt x="7766" y="12121"/>
                  <a:pt x="7689" y="12229"/>
                </a:cubicBezTo>
              </a:path>
              <a:path w="1167" h="770">
                <a:moveTo>
                  <a:pt x="8409" y="11832"/>
                </a:moveTo>
                <a:cubicBezTo>
                  <a:pt x="8334" y="11851"/>
                  <a:pt x="8115" y="11930"/>
                  <a:pt x="8235" y="12030"/>
                </a:cubicBezTo>
                <a:cubicBezTo>
                  <a:pt x="8346" y="12122"/>
                  <a:pt x="8334" y="12039"/>
                  <a:pt x="8334" y="12154"/>
                </a:cubicBezTo>
                <a:cubicBezTo>
                  <a:pt x="8172" y="12136"/>
                  <a:pt x="8289" y="12037"/>
                  <a:pt x="8384" y="11931"/>
                </a:cubicBezTo>
              </a:path>
              <a:path w="1167" h="770">
                <a:moveTo>
                  <a:pt x="7590" y="12353"/>
                </a:moveTo>
                <a:cubicBezTo>
                  <a:pt x="7590" y="12545"/>
                  <a:pt x="7605" y="12510"/>
                  <a:pt x="7789" y="12502"/>
                </a:cubicBezTo>
                <a:cubicBezTo>
                  <a:pt x="7964" y="12494"/>
                  <a:pt x="8123" y="12558"/>
                  <a:pt x="8235" y="12427"/>
                </a:cubicBezTo>
                <a:cubicBezTo>
                  <a:pt x="8273" y="12389"/>
                  <a:pt x="8291" y="12366"/>
                  <a:pt x="8310" y="1232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14960" y="5099040"/>
            <a:ext cx="1428840" cy="473040"/>
          </a:xfrm>
          <a:custGeom>
            <a:avLst/>
            <a:gdLst/>
            <a:ahLst/>
            <a:rect l="l" t="t" r="r" b="b"/>
            <a:pathLst>
              <a:path w="3970" h="1316">
                <a:moveTo>
                  <a:pt x="14858" y="14536"/>
                </a:moveTo>
                <a:cubicBezTo>
                  <a:pt x="14816" y="14533"/>
                  <a:pt x="14612" y="14477"/>
                  <a:pt x="14585" y="14511"/>
                </a:cubicBezTo>
                <a:cubicBezTo>
                  <a:pt x="14505" y="14611"/>
                  <a:pt x="14526" y="14787"/>
                  <a:pt x="14511" y="14908"/>
                </a:cubicBezTo>
                <a:cubicBezTo>
                  <a:pt x="14503" y="14916"/>
                  <a:pt x="14494" y="14924"/>
                  <a:pt x="14486" y="14932"/>
                </a:cubicBezTo>
                <a:cubicBezTo>
                  <a:pt x="14607" y="14908"/>
                  <a:pt x="14741" y="14800"/>
                  <a:pt x="14858" y="14908"/>
                </a:cubicBezTo>
                <a:cubicBezTo>
                  <a:pt x="15024" y="15061"/>
                  <a:pt x="14836" y="15258"/>
                  <a:pt x="14660" y="15230"/>
                </a:cubicBezTo>
                <a:cubicBezTo>
                  <a:pt x="14553" y="15187"/>
                  <a:pt x="14518" y="15188"/>
                  <a:pt x="14511" y="15106"/>
                </a:cubicBezTo>
              </a:path>
              <a:path w="3970" h="1316">
                <a:moveTo>
                  <a:pt x="15329" y="14833"/>
                </a:moveTo>
                <a:cubicBezTo>
                  <a:pt x="15337" y="14973"/>
                  <a:pt x="15342" y="15090"/>
                  <a:pt x="15329" y="15230"/>
                </a:cubicBezTo>
              </a:path>
              <a:path w="3970" h="1316">
                <a:moveTo>
                  <a:pt x="15106" y="15007"/>
                </a:moveTo>
                <a:cubicBezTo>
                  <a:pt x="15226" y="15041"/>
                  <a:pt x="15329" y="15056"/>
                  <a:pt x="15453" y="15056"/>
                </a:cubicBezTo>
              </a:path>
              <a:path w="3970" h="1316">
                <a:moveTo>
                  <a:pt x="16073" y="14585"/>
                </a:moveTo>
                <a:cubicBezTo>
                  <a:pt x="15936" y="14524"/>
                  <a:pt x="15821" y="14561"/>
                  <a:pt x="15701" y="14660"/>
                </a:cubicBezTo>
                <a:cubicBezTo>
                  <a:pt x="15693" y="14676"/>
                  <a:pt x="15685" y="14693"/>
                  <a:pt x="15677" y="14709"/>
                </a:cubicBezTo>
                <a:cubicBezTo>
                  <a:pt x="15822" y="14797"/>
                  <a:pt x="16187" y="14852"/>
                  <a:pt x="16073" y="15081"/>
                </a:cubicBezTo>
                <a:cubicBezTo>
                  <a:pt x="15981" y="15151"/>
                  <a:pt x="15956" y="15176"/>
                  <a:pt x="15875" y="15156"/>
                </a:cubicBezTo>
                <a:cubicBezTo>
                  <a:pt x="15829" y="14937"/>
                  <a:pt x="15896" y="14826"/>
                  <a:pt x="16024" y="14635"/>
                </a:cubicBezTo>
              </a:path>
              <a:path w="3970" h="1316">
                <a:moveTo>
                  <a:pt x="16371" y="14833"/>
                </a:moveTo>
                <a:cubicBezTo>
                  <a:pt x="16439" y="14833"/>
                  <a:pt x="16458" y="14830"/>
                  <a:pt x="16495" y="14858"/>
                </a:cubicBezTo>
              </a:path>
              <a:path w="3970" h="1316">
                <a:moveTo>
                  <a:pt x="16371" y="15007"/>
                </a:moveTo>
                <a:cubicBezTo>
                  <a:pt x="16453" y="14986"/>
                  <a:pt x="16469" y="14978"/>
                  <a:pt x="16520" y="14982"/>
                </a:cubicBezTo>
              </a:path>
              <a:path w="3970" h="1316">
                <a:moveTo>
                  <a:pt x="17140" y="14585"/>
                </a:moveTo>
                <a:cubicBezTo>
                  <a:pt x="17113" y="14807"/>
                  <a:pt x="17101" y="15031"/>
                  <a:pt x="17090" y="15255"/>
                </a:cubicBezTo>
              </a:path>
              <a:path w="3970" h="1316">
                <a:moveTo>
                  <a:pt x="17314" y="14635"/>
                </a:moveTo>
                <a:cubicBezTo>
                  <a:pt x="17436" y="14573"/>
                  <a:pt x="17476" y="14569"/>
                  <a:pt x="17611" y="14585"/>
                </a:cubicBezTo>
                <a:cubicBezTo>
                  <a:pt x="17632" y="14793"/>
                  <a:pt x="17629" y="14854"/>
                  <a:pt x="17438" y="14957"/>
                </a:cubicBezTo>
                <a:cubicBezTo>
                  <a:pt x="17479" y="14861"/>
                  <a:pt x="17622" y="14864"/>
                  <a:pt x="17711" y="14957"/>
                </a:cubicBezTo>
                <a:cubicBezTo>
                  <a:pt x="17719" y="14982"/>
                  <a:pt x="17727" y="15007"/>
                  <a:pt x="17735" y="15032"/>
                </a:cubicBezTo>
                <a:cubicBezTo>
                  <a:pt x="17639" y="15197"/>
                  <a:pt x="17564" y="15214"/>
                  <a:pt x="17388" y="15156"/>
                </a:cubicBezTo>
              </a:path>
              <a:path w="3970" h="1316">
                <a:moveTo>
                  <a:pt x="16867" y="15280"/>
                </a:moveTo>
                <a:cubicBezTo>
                  <a:pt x="17108" y="15414"/>
                  <a:pt x="17270" y="15504"/>
                  <a:pt x="17562" y="15478"/>
                </a:cubicBezTo>
                <a:cubicBezTo>
                  <a:pt x="17853" y="15452"/>
                  <a:pt x="18226" y="15298"/>
                  <a:pt x="18380" y="15032"/>
                </a:cubicBezTo>
                <a:cubicBezTo>
                  <a:pt x="18557" y="14725"/>
                  <a:pt x="18393" y="14378"/>
                  <a:pt x="18083" y="14238"/>
                </a:cubicBezTo>
                <a:cubicBezTo>
                  <a:pt x="17831" y="14124"/>
                  <a:pt x="17377" y="14128"/>
                  <a:pt x="17115" y="14213"/>
                </a:cubicBezTo>
                <a:cubicBezTo>
                  <a:pt x="16893" y="14285"/>
                  <a:pt x="16662" y="14501"/>
                  <a:pt x="16694" y="14759"/>
                </a:cubicBezTo>
                <a:cubicBezTo>
                  <a:pt x="16743" y="15152"/>
                  <a:pt x="17070" y="15256"/>
                  <a:pt x="17388" y="153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urse 2 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W page 5    11-15 od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W page 7 1-9 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66920" y="6742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795" y="18728"/>
                </a:moveTo>
                <a:lnTo>
                  <a:pt x="3795" y="18728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8:41:45Z</dcterms:created>
  <dc:creator>ccps</dc:creator>
  <dc:description/>
  <dc:language>en-US</dc:language>
  <cp:lastModifiedBy>deanne elizabeth mcgrath</cp:lastModifiedBy>
  <dcterms:modified xsi:type="dcterms:W3CDTF">2010-09-08T18:04:11Z</dcterms:modified>
  <cp:revision>9</cp:revision>
  <dc:subject/>
  <dc:title>Exponents</dc:title>
</cp:coreProperties>
</file>